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EA0-8010-4DAB-B9D8-E38BB7E4A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E6F-E4D4-4A1A-B11C-20B462D9B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AEA9-5F5C-4D91-A5B2-CE97066CC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891-DC1B-4280-8566-BEFB915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122-7326-4D38-9F70-879C6366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D22-5069-43B4-8897-E0BD77A7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244-CECD-44FC-B7FB-0511F74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82B-D209-497F-A318-E5FC794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AE3-2E1C-444E-8872-5354F9E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D77-74DD-4F58-8FD4-1B9A395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AE1-F48E-4AFE-9F73-9FD85F7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DA6-AB41-46D5-AEE6-EE8AD7C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E9D-3F81-4F37-8FDD-F7DD418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E59-5DEE-463E-9F12-F5BFC38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89B-B053-46F0-BD1C-58A9461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172-7FF3-4EC5-B256-90A523B08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misis.ru/tabid/55/Default.aspx" TargetMode="External"/><Relationship Id="rId3" Type="http://schemas.openxmlformats.org/officeDocument/2006/relationships/image" Target="../media/image29.png"/><Relationship Id="rId4" Type="http://schemas.openxmlformats.org/officeDocument/2006/relationships/hyperlink" Target="http://www.nrcki.ru/" TargetMode="External"/><Relationship Id="rId5" Type="http://schemas.openxmlformats.org/officeDocument/2006/relationships/image" Target="../media/image30.png"/><Relationship Id="rId6" Type="http://schemas.openxmlformats.org/officeDocument/2006/relationships/hyperlink" Target="http://www.google.ru/url?sa=i&amp;rct=j&amp;q=&amp;esrc=s&amp;frm=1&amp;source=images&amp;cd=&amp;cad=rja&amp;docid=pu0sqhWsXNLCOM&amp;tbnid=_oWBJgREDSh3zM:&amp;ved=0CAUQjRw&amp;url=http://www.bsu.edu.ru/bsu/info/gerbgimn/&amp;ei=3ap3UdCQOKfK4ASwiYCoBQ&amp;bvm=bv.45580626,d.bGE&amp;psig=AFQjCNHuLDLxu9BPXfI-8WPduIxfw2crkw&amp;ust=1366883394677032" TargetMode="External"/><Relationship Id="rId7" Type="http://schemas.openxmlformats.org/officeDocument/2006/relationships/image" Target="../media/image31.png"/><Relationship Id="rId8" Type="http://schemas.openxmlformats.org/officeDocument/2006/relationships/hyperlink" Target="http://www.ispms.ru/ru/" TargetMode="External"/><Relationship Id="rId9" Type="http://schemas.openxmlformats.org/officeDocument/2006/relationships/image" Target="../media/image32.png"/><Relationship Id="rId10" Type="http://schemas.openxmlformats.org/officeDocument/2006/relationships/hyperlink" Target="http://www.google.ru/url?sa=i&amp;rct=j&amp;q=&amp;esrc=s&amp;frm=1&amp;source=images&amp;cd=&amp;cad=rja&amp;docid=4JvZ6AgaDjA-WM&amp;tbnid=SxUzjpfb7QoDSM:&amp;ved=0CAUQjRw&amp;url=http://ru.wikipedia.org/wiki/&#1060;&#1080;&#1079;&#1080;&#1082;&#1086;-&#1090;&#1077;&#1093;&#1085;&#1080;&#1095;&#1077;&#1089;&#1082;&#1080;&#1081;_&#1080;&#1085;&#1089;&#1090;&#1080;&#1090;&#1091;&#1090;_&#1080;&#1084;._&#1040;._&#1060;._&#1048;&#1086;&#1092;&#1092;&#1077;_&#1056;&#1040;&#1053;&amp;ei=Cax3UaL3JoX44QSOtYC4Cg&amp;bvm=bv.45580626,d.bGE&amp;psig=AFQjCNEzGO4o-WTkuwaTBi14lK7fwP-oVg&amp;ust=1366883716698027" TargetMode="External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hyperlink" Target="http://www.google.ru/url?sa=i&amp;rct=j&amp;q=&amp;esrc=s&amp;frm=1&amp;source=images&amp;cd=&amp;cad=rja&amp;docid=f1Wt-x5CYR-s8M&amp;tbnid=8bjjnMaBZcGwZM:&amp;ved=0CAUQjRw&amp;url=http://rabota.mail.ru/employer/239379&amp;ei=JK53UYrJG-v14QTQm4CYCw&amp;bvm=bv.45580626,d.bGE&amp;psig=AFQjCNF3dBQYKBQmUGDyjA9ANmGzkMRUKQ&amp;ust=1366884239748994" TargetMode="External"/><Relationship Id="rId14" Type="http://schemas.openxmlformats.org/officeDocument/2006/relationships/image" Target="../media/image35.png"/><Relationship Id="rId15" Type="http://schemas.openxmlformats.org/officeDocument/2006/relationships/hyperlink" Target="http://www.cplire.ru/index.html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hyperlink" Target="http://www.google.ru/url?sa=i&amp;rct=j&amp;q=&amp;esrc=s&amp;frm=1&amp;source=images&amp;cd=&amp;cad=rja&amp;docid=W7gK5rvdOAnTiM&amp;tbnid=zoniyGuP1ISSSM:&amp;ved=0CAUQjRw&amp;url=http://agnc.ru/index.php?id=16&amp;t=3&amp;ei=ZrB3UbfwIZP54QS0oICACQ&amp;bvm=bv.45580626,d.bGE&amp;psig=AFQjCNFWaHecmUDozvJMF_ipsX5bPs3bfg&amp;ust=1366884782047602" TargetMode="External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hyperlink" Target="http://www.google.ru/url?sa=i&amp;rct=j&amp;q=&amp;esrc=s&amp;frm=1&amp;source=images&amp;cd=&amp;cad=rja&amp;docid=OQWBkCXxKbG11M&amp;tbnid=5uBeQ86NXr4pkM:&amp;ved=0CAUQjRw&amp;url=http://www.eprussia.ru/com/company/901.htm&amp;ei=HrN3Ucj1G8eN4ASslIDwAg&amp;bvm=bv.45580626,d.bGE&amp;psig=AFQjCNGGpNuHFx4QvhAqzJYqyHVoT4w3DA&amp;ust=1366885498576901" TargetMode="External"/><Relationship Id="rId23" Type="http://schemas.openxmlformats.org/officeDocument/2006/relationships/image" Target="../media/image41.png"/><Relationship Id="rId24" Type="http://schemas.openxmlformats.org/officeDocument/2006/relationships/hyperlink" Target="http://www.google.ru/url?sa=i&amp;rct=j&amp;q=&amp;esrc=s&amp;frm=1&amp;source=images&amp;cd=&amp;cad=rja&amp;docid=i7HLOSjWOH5RIM&amp;tbnid=gnBktcWivpSc8M:&amp;ved=0CAUQjRw&amp;url=http://www.citis.ru/&amp;ei=C7V3UbrZDqjT4QTRx4DQBQ&amp;bvm=bv.45580626,d.bGE&amp;psig=AFQjCNGaOWqmDPNp18mKxQCD2vOM15yV8Q&amp;ust=1366886007355930" TargetMode="External"/><Relationship Id="rId25" Type="http://schemas.openxmlformats.org/officeDocument/2006/relationships/image" Target="../media/image42.png"/><Relationship Id="rId26" Type="http://schemas.openxmlformats.org/officeDocument/2006/relationships/hyperlink" Target="http://www.vniineft.ru/index.html" TargetMode="External"/><Relationship Id="rId27" Type="http://schemas.openxmlformats.org/officeDocument/2006/relationships/image" Target="../media/image43.png"/><Relationship Id="rId28" Type="http://schemas.openxmlformats.org/officeDocument/2006/relationships/hyperlink" Target="http://www.google.ru/url?sa=i&amp;rct=j&amp;q=&amp;esrc=s&amp;frm=1&amp;source=images&amp;cd=&amp;cad=rja&amp;docid=Ythl3fIW8ncGZM&amp;tbnid=IU2w_JdvjLeLaM:&amp;ved=0CAUQjRw&amp;url=http://www.atomic-energy.ru/MEPhI&amp;ei=SQ14UaX-H_T34QSktIH4DA&amp;bvm=bv.45645796,d.bGE&amp;psig=AFQjCNHdTA89OGkONnTXnk0-cMMNoNVkWQ&amp;ust=1366908594987980" TargetMode="External"/><Relationship Id="rId29" Type="http://schemas.openxmlformats.org/officeDocument/2006/relationships/image" Target="../media/image44.png"/><Relationship Id="rId30" Type="http://schemas.openxmlformats.org/officeDocument/2006/relationships/hyperlink" Target="http://www.google.ru/url?sa=i&amp;rct=j&amp;q=&amp;esrc=s&amp;frm=1&amp;source=images&amp;cd=&amp;cad=rja&amp;docid=MCCuXP8twZ2hzM&amp;tbnid=FiDmMTEo0sQS_M:&amp;ved=0CAUQjRw&amp;url=http://dic.academic.ru/dic.nsf/ruwiki/31876&amp;ei=Dw54UZ3PG8Lw4QSa8IDADQ&amp;bvm=bv.45645796,d.bGE&amp;psig=AFQjCNG6DBi7Lhk-i55ZUrFaLWIreIpMcA&amp;ust=1366908733377617" TargetMode="External"/><Relationship Id="rId31" Type="http://schemas.openxmlformats.org/officeDocument/2006/relationships/image" Target="../media/image45.png"/><Relationship Id="rId32" Type="http://schemas.openxmlformats.org/officeDocument/2006/relationships/hyperlink" Target="http://www.google.ru/url?sa=i&amp;rct=j&amp;q=&amp;esrc=s&amp;frm=1&amp;source=images&amp;cd=&amp;cad=rja&amp;docid=8bsBzkhUzHh1WM&amp;tbnid=9CtLtEwc-jsIuM:&amp;ved=0CAUQjRw&amp;url=http://hwww.festivalnauki.ru/organizaciya-uchastnik/11313/gosudarstvennoe-avtonomnoe-obrazovatelnoe-uchrezhdenie-vysshego&amp;ei=oQ54UZHbBcSl4ASj-YHQBw&amp;bvm=bv.45645796,d.bGE&amp;psig=AFQjCNGv5G1cjobh44SoW3JJ5waEiIAGRw&amp;ust=1366908903511145" TargetMode="External"/><Relationship Id="rId33" Type="http://schemas.openxmlformats.org/officeDocument/2006/relationships/image" Target="../media/image46.png"/><Relationship Id="rId34" Type="http://schemas.openxmlformats.org/officeDocument/2006/relationships/hyperlink" Target="http://www.google.ru/url?sa=i&amp;rct=j&amp;q=&amp;esrc=s&amp;frm=1&amp;source=images&amp;cd=&amp;cad=rja&amp;docid=ysFWspdbmIeSrM&amp;tbnid=wzc_Gyqcp71wDM:&amp;ved=0CAUQjRw&amp;url=http://whoiswho.dp.ru/cart/company/36161/&amp;ei=pQ94UbiKKOOH4gSN04HQDQ&amp;bvm=bv.45645796,d.bGE&amp;psig=AFQjCNGeCn9RM6m0QgGLCwe1-kjjP-moaQ&amp;ust=1366909149343357" TargetMode="External"/><Relationship Id="rId35" Type="http://schemas.openxmlformats.org/officeDocument/2006/relationships/image" Target="../media/image47.png"/><Relationship Id="rId36" Type="http://schemas.openxmlformats.org/officeDocument/2006/relationships/hyperlink" Target="http://www.google.ru/url?sa=i&amp;rct=j&amp;q=&amp;esrc=s&amp;frm=1&amp;source=images&amp;cd=&amp;cad=rja&amp;docid=nAQQwa2vBo4m5M&amp;tbnid=qBDRDWEjKlUzaM:&amp;ved=0CAUQjRw&amp;url=http://www.sbras.ru/sbras/db/search_pub.phtml?full_list+1+rus&amp;ei=NRB4UaLELOms4ASt44GYDw&amp;bvm=bv.45645796,d.bGE&amp;psig=AFQjCNFPeupH8hjqosA3XlhWRyMkTkbrKQ&amp;ust=1366909335426474" TargetMode="External"/><Relationship Id="rId37" Type="http://schemas.openxmlformats.org/officeDocument/2006/relationships/image" Target="../media/image48.png"/><Relationship Id="rId38" Type="http://schemas.openxmlformats.org/officeDocument/2006/relationships/hyperlink" Target="http://www.google.ru/url?sa=i&amp;rct=j&amp;q=&amp;esrc=s&amp;frm=1&amp;source=images&amp;cd=&amp;cad=rja&amp;docid=rlRfl5PzI1ZAZM&amp;tbnid=5qv9mkh-dGYmKM:&amp;ved=0CAUQjRw&amp;url=http://rudocs.exdat.com/docs/index-573111.html&amp;ei=CBJ4Ue6WIYSG4ATuoYGIAw&amp;bvm=bv.45645796,d.bGE&amp;psig=AFQjCNGYlil8-LL11W3bIpH6TbgORk3vew&amp;ust=1366909825849708" TargetMode="External"/><Relationship Id="rId39" Type="http://schemas.openxmlformats.org/officeDocument/2006/relationships/image" Target="../media/image49.png"/><Relationship Id="rId40" Type="http://schemas.openxmlformats.org/officeDocument/2006/relationships/image" Target="../media/image50.png"/><Relationship Id="rId41" Type="http://schemas.openxmlformats.org/officeDocument/2006/relationships/image" Target="../media/image51.png"/><Relationship Id="rId42" Type="http://schemas.openxmlformats.org/officeDocument/2006/relationships/hyperlink" Target="http://www.google.ru/url?sa=i&amp;rct=j&amp;q=&amp;esrc=s&amp;frm=1&amp;source=images&amp;cd=&amp;cad=rja&amp;docid=tgMcIin__EF-nM&amp;tbnid=GPhNECgfai0W2M:&amp;ved=0CAUQjRw&amp;url=http://vk.com/fldmrsuru&amp;ei=eRZ4Uar2GOqp4ATHgoCIBw&amp;bvm=bv.45645796,d.bGE&amp;psig=AFQjCNGcYms7fRLYwE3RNyFvZDy8cSg-JQ&amp;ust=1366910892760112" TargetMode="External"/><Relationship Id="rId43" Type="http://schemas.openxmlformats.org/officeDocument/2006/relationships/image" Target="../media/image52.png"/><Relationship Id="rId44" Type="http://schemas.openxmlformats.org/officeDocument/2006/relationships/image" Target="../media/image53.png"/><Relationship Id="rId45" Type="http://schemas.openxmlformats.org/officeDocument/2006/relationships/image" Target="../media/image54.png"/><Relationship Id="rId4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55640" y="10486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Book Antiqua"/>
              </a:rPr>
              <a:t>Роль ФЦП «Исследования и разработк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Book Antiqua"/>
              </a:rPr>
              <a:t>в развитии механизмов взаимодействия науки и бизнеса при коммерциализации результатов НИО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2327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Book Antiqua"/>
              </a:rPr>
              <a:t>Даниленко А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Book Antiqua"/>
              </a:rPr>
              <a:t>МЕЖВЕДОМСТВЕННЫЙ АНАЛИТИЧЕСКИЙ ЦЕНТ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Book Antiqua"/>
              </a:rPr>
              <a:t>Спивак В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Book Antiqua"/>
              </a:rPr>
              <a:t>РЕГИОНАЛЬНЫЙ ФОНД НАУЧНО-ТЕХНИЧЕ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Book Antiqua"/>
              </a:rPr>
              <a:t>РАЗВИТИЯ САНКТ-ПЕТЕРБУР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Book Antiqua"/>
              </a:rPr>
              <a:t>Шуртаков К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Book Antiqua"/>
              </a:rPr>
              <a:t>ДИРЕКЦИЯ НАУЧНО-ТЕХНИЧЕСКИХ ПРОГРАМ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17"/>
          <p:cNvSpPr/>
          <p:nvPr/>
        </p:nvSpPr>
        <p:spPr>
          <a:xfrm>
            <a:off x="900000" y="2602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В реализации бизнес-проектов в рамках Программы приняли участие крупные промышленные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8" descr=""/>
          <p:cNvPicPr/>
          <p:nvPr/>
        </p:nvPicPr>
        <p:blipFill>
          <a:blip r:embed="rId1"/>
          <a:stretch/>
        </p:blipFill>
        <p:spPr>
          <a:xfrm>
            <a:off x="542880" y="871560"/>
            <a:ext cx="8058240" cy="587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328840" y="1000080"/>
            <a:ext cx="1451160" cy="111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5-tub-ru.yandex.net/i?id=109175808-42-72&amp;n=21"/>
          <p:cNvPicPr/>
          <p:nvPr/>
        </p:nvPicPr>
        <p:blipFill>
          <a:blip r:embed="rId3"/>
          <a:stretch/>
        </p:blipFill>
        <p:spPr>
          <a:xfrm>
            <a:off x="3828960" y="987480"/>
            <a:ext cx="1438200" cy="1225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4"/>
          <a:stretch/>
        </p:blipFill>
        <p:spPr>
          <a:xfrm>
            <a:off x="5437080" y="1060560"/>
            <a:ext cx="1420920" cy="94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en5"/>
          <p:cNvPicPr/>
          <p:nvPr/>
        </p:nvPicPr>
        <p:blipFill>
          <a:blip r:embed="rId5"/>
          <a:stretch/>
        </p:blipFill>
        <p:spPr>
          <a:xfrm>
            <a:off x="7459560" y="954000"/>
            <a:ext cx="906480" cy="27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"/>
          <p:cNvPicPr/>
          <p:nvPr/>
        </p:nvPicPr>
        <p:blipFill>
          <a:blip r:embed="rId6"/>
          <a:stretch/>
        </p:blipFill>
        <p:spPr>
          <a:xfrm>
            <a:off x="798480" y="2004840"/>
            <a:ext cx="1427040" cy="104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"/>
          <p:cNvPicPr/>
          <p:nvPr/>
        </p:nvPicPr>
        <p:blipFill>
          <a:blip r:embed="rId7"/>
          <a:stretch/>
        </p:blipFill>
        <p:spPr>
          <a:xfrm>
            <a:off x="2316240" y="2011320"/>
            <a:ext cx="1474560" cy="98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"/>
          <p:cNvPicPr/>
          <p:nvPr/>
        </p:nvPicPr>
        <p:blipFill>
          <a:blip r:embed="rId8"/>
          <a:stretch/>
        </p:blipFill>
        <p:spPr>
          <a:xfrm>
            <a:off x="3895560" y="2004840"/>
            <a:ext cx="1425600" cy="10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http://im5-tub-ru.yandex.net/i?id=245558818-69-72&amp;n=21"/>
          <p:cNvPicPr/>
          <p:nvPr/>
        </p:nvPicPr>
        <p:blipFill>
          <a:blip r:embed="rId9"/>
          <a:stretch/>
        </p:blipFill>
        <p:spPr>
          <a:xfrm>
            <a:off x="6229440" y="1914480"/>
            <a:ext cx="5983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5" descr=""/>
          <p:cNvPicPr/>
          <p:nvPr/>
        </p:nvPicPr>
        <p:blipFill>
          <a:blip r:embed="rId10"/>
          <a:stretch/>
        </p:blipFill>
        <p:spPr>
          <a:xfrm>
            <a:off x="762120" y="3084480"/>
            <a:ext cx="1504800" cy="725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http://im7-tub-ru.yandex.net/i?id=144536999-13-72&amp;n=21"/>
          <p:cNvPicPr/>
          <p:nvPr/>
        </p:nvPicPr>
        <p:blipFill>
          <a:blip r:embed="rId11"/>
          <a:stretch/>
        </p:blipFill>
        <p:spPr>
          <a:xfrm>
            <a:off x="2419200" y="2914560"/>
            <a:ext cx="12877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2" descr=""/>
          <p:cNvPicPr/>
          <p:nvPr/>
        </p:nvPicPr>
        <p:blipFill>
          <a:blip r:embed="rId12"/>
          <a:stretch/>
        </p:blipFill>
        <p:spPr>
          <a:xfrm>
            <a:off x="3938760" y="3005280"/>
            <a:ext cx="1352520" cy="95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5" descr=""/>
          <p:cNvPicPr/>
          <p:nvPr/>
        </p:nvPicPr>
        <p:blipFill>
          <a:blip r:embed="rId13"/>
          <a:stretch/>
        </p:blipFill>
        <p:spPr>
          <a:xfrm>
            <a:off x="5456160" y="29145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8" descr=""/>
          <p:cNvPicPr/>
          <p:nvPr/>
        </p:nvPicPr>
        <p:blipFill>
          <a:blip r:embed="rId14"/>
          <a:stretch/>
        </p:blipFill>
        <p:spPr>
          <a:xfrm>
            <a:off x="6961320" y="3011400"/>
            <a:ext cx="14270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15"/>
          <a:stretch/>
        </p:blipFill>
        <p:spPr>
          <a:xfrm>
            <a:off x="798480" y="4022640"/>
            <a:ext cx="1457280" cy="84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2" descr=""/>
          <p:cNvPicPr/>
          <p:nvPr/>
        </p:nvPicPr>
        <p:blipFill>
          <a:blip r:embed="rId16"/>
          <a:stretch/>
        </p:blipFill>
        <p:spPr>
          <a:xfrm>
            <a:off x="2371680" y="3949560"/>
            <a:ext cx="1365120" cy="993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http://im4-tub-ru.yandex.net/i?id=613035362-64-72&amp;n=21"/>
          <p:cNvPicPr/>
          <p:nvPr/>
        </p:nvPicPr>
        <p:blipFill>
          <a:blip r:embed="rId17"/>
          <a:stretch/>
        </p:blipFill>
        <p:spPr>
          <a:xfrm>
            <a:off x="4102200" y="3846600"/>
            <a:ext cx="1066680" cy="1590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"/>
          <p:cNvPicPr/>
          <p:nvPr/>
        </p:nvPicPr>
        <p:blipFill>
          <a:blip r:embed="rId18"/>
          <a:stretch/>
        </p:blipFill>
        <p:spPr>
          <a:xfrm>
            <a:off x="5437080" y="3949560"/>
            <a:ext cx="1427400" cy="99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1" descr=""/>
          <p:cNvPicPr/>
          <p:nvPr/>
        </p:nvPicPr>
        <p:blipFill>
          <a:blip r:embed="rId19"/>
          <a:stretch/>
        </p:blipFill>
        <p:spPr>
          <a:xfrm>
            <a:off x="798480" y="5016600"/>
            <a:ext cx="1427040" cy="8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20"/>
          <a:stretch/>
        </p:blipFill>
        <p:spPr>
          <a:xfrm>
            <a:off x="2359080" y="4937040"/>
            <a:ext cx="1401840" cy="106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5" descr=""/>
          <p:cNvPicPr/>
          <p:nvPr/>
        </p:nvPicPr>
        <p:blipFill>
          <a:blip r:embed="rId21"/>
          <a:stretch/>
        </p:blipFill>
        <p:spPr>
          <a:xfrm>
            <a:off x="3895560" y="4973760"/>
            <a:ext cx="1438560" cy="81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2"/>
          <a:stretch/>
        </p:blipFill>
        <p:spPr>
          <a:xfrm>
            <a:off x="5443560" y="5005440"/>
            <a:ext cx="142092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7" descr=""/>
          <p:cNvPicPr/>
          <p:nvPr/>
        </p:nvPicPr>
        <p:blipFill>
          <a:blip r:embed="rId23"/>
          <a:stretch/>
        </p:blipFill>
        <p:spPr>
          <a:xfrm>
            <a:off x="6980400" y="4986360"/>
            <a:ext cx="1438200" cy="86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://im7-tub-ru.yandex.net/i?id=117273391-71-72&amp;n=21"/>
          <p:cNvPicPr/>
          <p:nvPr/>
        </p:nvPicPr>
        <p:blipFill>
          <a:blip r:embed="rId24"/>
          <a:stretch/>
        </p:blipFill>
        <p:spPr>
          <a:xfrm>
            <a:off x="835200" y="957240"/>
            <a:ext cx="1358640" cy="134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"/>
          <p:cNvPicPr/>
          <p:nvPr/>
        </p:nvPicPr>
        <p:blipFill>
          <a:blip r:embed="rId25"/>
          <a:stretch/>
        </p:blipFill>
        <p:spPr>
          <a:xfrm>
            <a:off x="6991200" y="3949560"/>
            <a:ext cx="1427400" cy="7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6"/>
          <a:stretch/>
        </p:blipFill>
        <p:spPr>
          <a:xfrm>
            <a:off x="6991200" y="2097000"/>
            <a:ext cx="14274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17"/>
          <p:cNvSpPr/>
          <p:nvPr/>
        </p:nvSpPr>
        <p:spPr>
          <a:xfrm>
            <a:off x="900000" y="2602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Основные исполнители бизнес-проектов в рамках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8" descr=""/>
          <p:cNvPicPr/>
          <p:nvPr/>
        </p:nvPicPr>
        <p:blipFill>
          <a:blip r:embed="rId1"/>
          <a:stretch/>
        </p:blipFill>
        <p:spPr>
          <a:xfrm>
            <a:off x="542880" y="871560"/>
            <a:ext cx="8058240" cy="587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НИТУ МИС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907920"/>
            <a:ext cx="637920" cy="379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nrcki.ru/dyn_images/img6089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86508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www.bsu.edu.ru/bsu/info/gerbgimn/gerbbigb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92960" y="907920"/>
            <a:ext cx="290520" cy="43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www.ispms.r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812000" y="981000"/>
            <a:ext cx="514440" cy="23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://upload.wikimedia.org/wikipedia/ru/4/4c/Ioffe_Institute_logo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63640" y="1916280"/>
            <a:ext cx="35712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http://upload.wikimedia.org/wikipedia/commons/3/3d/Mitht_logo_animation.gif"/>
          <p:cNvPicPr/>
          <p:nvPr/>
        </p:nvPicPr>
        <p:blipFill>
          <a:blip r:embed="rId12"/>
          <a:stretch/>
        </p:blipFill>
        <p:spPr>
          <a:xfrm>
            <a:off x="3273480" y="191448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http://rabota.mail.ru/employer-logo/429056.jpe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1914480"/>
            <a:ext cx="669960" cy="40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8" descr="На главную страницу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227640" y="1916280"/>
            <a:ext cx="525600" cy="315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https://encrypted-tbn3.gstatic.com/images?q=tbn:ANd9GcRdiGfpjw1McrW3oDRwgrSTatYgjAaieP8XboSMU5y1NV8WgRNIOA"/>
          <p:cNvPicPr/>
          <p:nvPr/>
        </p:nvPicPr>
        <p:blipFill>
          <a:blip r:embed="rId17"/>
          <a:stretch/>
        </p:blipFill>
        <p:spPr>
          <a:xfrm>
            <a:off x="8058240" y="1914480"/>
            <a:ext cx="257040" cy="51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4" descr="http://agnc.ru/images/16/logo.gif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389400" y="2852640"/>
            <a:ext cx="353880" cy="5065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6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8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2" descr="https://encrypted-tbn0.gstatic.com/images?q=tbn:ANd9GcQBfW3pPSWkWAY0cAPWWqyL6T3Z-SBLyEgEsLsSXdwYCk-V26K4"/>
          <p:cNvPicPr/>
          <p:nvPr/>
        </p:nvPicPr>
        <p:blipFill>
          <a:blip r:embed="rId20"/>
          <a:stretch/>
        </p:blipFill>
        <p:spPr>
          <a:xfrm>
            <a:off x="4718160" y="278604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4" descr="http://www.ratec-spb.ru/images/logo.gif"/>
          <p:cNvPicPr/>
          <p:nvPr/>
        </p:nvPicPr>
        <p:blipFill>
          <a:blip r:embed="rId21"/>
          <a:stretch/>
        </p:blipFill>
        <p:spPr>
          <a:xfrm>
            <a:off x="4857840" y="4870440"/>
            <a:ext cx="433440" cy="34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6" descr="http://www.eprussia.ru/com/logo/logo_901.gif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297480" y="4797360"/>
            <a:ext cx="505080" cy="5065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8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0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http://www.citis.ru/images/166.jp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975040" y="4797360"/>
            <a:ext cx="804960" cy="573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4" descr="Сайт ОАО &quot;ВНИИнефть им.акад. А.П.Крылова&quot;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7875720" y="4797360"/>
            <a:ext cx="512640" cy="43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atomic-energy.ru/files/imagecache/120/images/logo%5b1%5d_18.gif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1695600" y="907920"/>
            <a:ext cx="444240" cy="44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dic.academic.ru/pictures/wiki/files/85/USU-logo.png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1692360" y="2913120"/>
            <a:ext cx="431640" cy="4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hwww.festivalnauki.ru/sites/default/files/logo/logotip_yufu.jpg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6229440" y="2871720"/>
            <a:ext cx="512640" cy="341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g1.whoiswho.dp.ru/wiwpictures/b1c2fbf0-9f3f-4c98-af56-149f48a54f1e.jp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7596360" y="2914560"/>
            <a:ext cx="718920" cy="29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www.sbras.ru/sbras/db/images/logo.png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1692360" y="3859200"/>
            <a:ext cx="428400" cy="433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http://rudocs.exdat.com/pars_docs/tw_refs/574/573111/573111_html_m751f78d2.jpg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3249720" y="3790800"/>
            <a:ext cx="457200" cy="58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http://www.ntcm-ras.ru/i/1.gif"/>
          <p:cNvPicPr/>
          <p:nvPr/>
        </p:nvPicPr>
        <p:blipFill>
          <a:blip r:embed="rId40"/>
          <a:stretch/>
        </p:blipFill>
        <p:spPr>
          <a:xfrm>
            <a:off x="63360" y="-457200"/>
            <a:ext cx="238140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ТИСНУМ"/>
          <p:cNvPicPr/>
          <p:nvPr/>
        </p:nvPicPr>
        <p:blipFill>
          <a:blip r:embed="rId41"/>
          <a:stretch/>
        </p:blipFill>
        <p:spPr>
          <a:xfrm>
            <a:off x="4784760" y="3859200"/>
            <a:ext cx="433440" cy="431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2" descr="http://cs9257.vk.me/g23401926/a_65ee249c.jp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6419880" y="3859200"/>
            <a:ext cx="36504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http://www.md-expo.ru/getattachment/7eaeca0d-d7cd-42dc-8080-515089047daf/vnimi.jpg.aspx"/>
          <p:cNvPicPr/>
          <p:nvPr/>
        </p:nvPicPr>
        <p:blipFill>
          <a:blip r:embed="rId44"/>
          <a:stretch/>
        </p:blipFill>
        <p:spPr>
          <a:xfrm>
            <a:off x="7954920" y="3859200"/>
            <a:ext cx="360360" cy="431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0" descr="http://www.naturoprof.ru/images/partners/samgmu_logo.jpg"/>
          <p:cNvPicPr/>
          <p:nvPr/>
        </p:nvPicPr>
        <p:blipFill>
          <a:blip r:embed="rId45"/>
          <a:stretch/>
        </p:blipFill>
        <p:spPr>
          <a:xfrm>
            <a:off x="1695600" y="4797360"/>
            <a:ext cx="4982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Отработаны механизмы и процедуры согласования интересов государства и бизнеса при реализации инновационных про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6280" indent="-47628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Апробированы схемы объединения разнородных, в том числе финансовых, ресурсов государства и бизнеса, необходимых для реализации инновационных про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6280" indent="-47628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Разработаны принципы и процедуры индикативного контроля и управления ходом реализации инновационных про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6280" indent="-47628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Накопленный Минобрнауки России опыт организации частно-государственного партнерства в инновационной сфере использован при реализации внепрограммных мероприятий по развитию кооперации науки и производства (Постановление №218) и положен в основу разработки новой ФЦП «ИР-2014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6280" indent="-47628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6280" indent="-47628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Book Antiqua"/>
              </a:rPr>
              <a:t>СПАСИБО за ВНИМ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17"/>
          <p:cNvSpPr/>
          <p:nvPr/>
        </p:nvSpPr>
        <p:spPr>
          <a:xfrm>
            <a:off x="539640" y="47628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ИНСТИТУЦИОНАЛЬНЫЕ ИТОГИ РЕАЛИЗАЦИИ БИЗНЕС-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6560" indent="-46656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ривлечение бизнес-сообщества к выбору приоритетов инновационного развития (формированию тематики НИОКР, финансируемых по Программ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Отказ государства в лице Минобрнауки России от статуса основного выгодоприобретателя по проекту в пользу его участников (исполнителей и соинвесторов-инициаторов из бизнес-сообщест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Долевое (паритетное) участие государства в лице Минобрнауки России и исполнителей/соинвесторов проекта в расходах на его выпол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Разделение рисков по проекту: НИОКР – Минобрнауки России; производство и сбыт – соинвестор/инициатор из бизнес-со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рактическая реализация изложенных принципов ЧГП в ходе всего периода выполнения Программы значительно осложнялась особенностями действующего законодательства в области гос.закупок (ФЗ-94) и налоговой сф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17"/>
          <p:cNvSpPr/>
          <p:nvPr/>
        </p:nvSpPr>
        <p:spPr>
          <a:xfrm>
            <a:off x="539640" y="476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ВЗАИМОДЕЙСТВИЕ НАУКИ И БИЗНЕСА В РАМКАХ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ПРИНЦИПЫ ЧАСТНО-ГОСУДАРСТВЕННОГО ПАРТН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4581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рактическая реализация принятой модели ЧГП в ходе всего периода выполнения Программы значительно осложнялась особенностями действующего законодательства в области гос.закупок (ФЗ-94) и налоговой сф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17"/>
          <p:cNvSpPr/>
          <p:nvPr/>
        </p:nvSpPr>
        <p:spPr>
          <a:xfrm>
            <a:off x="539640" y="476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ВЗАИМОДЕЙСТВИЕ НАУКИ И БИЗНЕСА В РАМКАХ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МОДЕЛЬ ЧАСТНО-ГОСУДАРСТВЕННОГО ПАРТН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8"/>
          <p:cNvGrpSpPr/>
          <p:nvPr/>
        </p:nvGrpSpPr>
        <p:grpSpPr>
          <a:xfrm>
            <a:off x="900000" y="1916280"/>
            <a:ext cx="7344000" cy="1937880"/>
            <a:chOff x="900000" y="1916280"/>
            <a:chExt cx="7344000" cy="1937880"/>
          </a:xfrm>
        </p:grpSpPr>
        <p:sp>
          <p:nvSpPr>
            <p:cNvPr id="55" name="Скругленный прямоугольник 4"/>
            <p:cNvSpPr/>
            <p:nvPr/>
          </p:nvSpPr>
          <p:spPr>
            <a:xfrm>
              <a:off x="3636000" y="1916280"/>
              <a:ext cx="1584000" cy="720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Минобр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Ро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Скругленный прямоугольник 5"/>
            <p:cNvSpPr/>
            <p:nvPr/>
          </p:nvSpPr>
          <p:spPr>
            <a:xfrm>
              <a:off x="5724000" y="2852640"/>
              <a:ext cx="1584000" cy="720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Инициат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(соинвест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6"/>
            <p:cNvSpPr/>
            <p:nvPr/>
          </p:nvSpPr>
          <p:spPr>
            <a:xfrm>
              <a:off x="1692000" y="2852640"/>
              <a:ext cx="1584000" cy="720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Исполни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(разработчи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Прямая со стрелкой 8"/>
            <p:cNvCxnSpPr>
              <a:stCxn id="57" idx="3"/>
              <a:endCxn id="56" idx="1"/>
            </p:cNvCxnSpPr>
            <p:nvPr/>
          </p:nvCxnSpPr>
          <p:spPr>
            <a:xfrm>
              <a:off x="3276000" y="3212280"/>
              <a:ext cx="2448720" cy="108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9" name="TextBox 9"/>
            <p:cNvSpPr/>
            <p:nvPr/>
          </p:nvSpPr>
          <p:spPr>
            <a:xfrm>
              <a:off x="3420000" y="3212640"/>
              <a:ext cx="223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говор о коммерциализации результатов НИОК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Shape 13"/>
            <p:cNvCxnSpPr>
              <a:stCxn id="55" idx="3"/>
              <a:endCxn id="56" idx="0"/>
            </p:cNvCxnSpPr>
            <p:nvPr/>
          </p:nvCxnSpPr>
          <p:spPr>
            <a:xfrm>
              <a:off x="5220000" y="2276280"/>
              <a:ext cx="1296360" cy="576360"/>
            </a:xfrm>
            <a:prstGeom prst="bentConnector2">
              <a:avLst/>
            </a:prstGeom>
            <a:ln w="255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1" name="TextBox 14"/>
            <p:cNvSpPr/>
            <p:nvPr/>
          </p:nvSpPr>
          <p:spPr>
            <a:xfrm>
              <a:off x="6588000" y="20602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оглашение о софинансир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а (включая ТЗ на НИОКР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5"/>
            <p:cNvSpPr/>
            <p:nvPr/>
          </p:nvSpPr>
          <p:spPr>
            <a:xfrm>
              <a:off x="900000" y="2276280"/>
              <a:ext cx="165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ос.контракт 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полнение НИОК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hape 17"/>
            <p:cNvCxnSpPr>
              <a:stCxn id="55" idx="1"/>
              <a:endCxn id="57" idx="0"/>
            </p:cNvCxnSpPr>
            <p:nvPr/>
          </p:nvCxnSpPr>
          <p:spPr>
            <a:xfrm flipV="1" rot="10800000">
              <a:off x="2483280" y="2276280"/>
              <a:ext cx="1152720" cy="576360"/>
            </a:xfrm>
            <a:prstGeom prst="bentConnector2">
              <a:avLst/>
            </a:prstGeom>
            <a:ln w="255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 Antiqua"/>
              </a:rPr>
              <a:t>Мероприятие 3.1 «Важнейшие инновационные проекты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Объем бюджетного финансирования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300 … 2000 млн. руб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оля внебюджетного софинансирования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менее 60% общей стоимости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родолжительность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более 5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юджетная эффективность по объему продаж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менее, чем 5-ти кратное превы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 Antiqua"/>
              </a:rPr>
              <a:t>Мероприятие 3.2 «Проекты  коммерциализации технолог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Объем бюджетного финансирования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о 100 млн. рублей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оля внебюджетного софинансирования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менее 70% общей стоимости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родолжительность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более 3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юджетная эффективность по объему продаж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ИРЕКТИВНО не установл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 Antiqua"/>
              </a:rPr>
              <a:t>Мероприятие 2.7 «Проекты  НИОКР по тематике бизнес-сообществ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Объем бюджетного финансирования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50 … 100 млн. рублей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оля внебюджетного софинансирования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менее 50% общей стоимости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родолжительность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е более 3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юджетная эффективность по объему продаж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ИРЕКТИВНО не установл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В ходе реализации Программы был осуществлен планомерный переход к расширению масштабов ЧГП, в том числе по причинам сокращения лимитов бюджетного финанс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17"/>
          <p:cNvSpPr/>
          <p:nvPr/>
        </p:nvSpPr>
        <p:spPr>
          <a:xfrm>
            <a:off x="539640" y="476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ВЗАИМОДЕЙСТВИЕ НАУКИ И БИЗНЕСА В РАМКАХ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ВАРИАЦИИ ПАРАМЕТРОВ ЧАСТНО-ГОСУДАРСТВЕННОГО ПАРТН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17"/>
          <p:cNvSpPr/>
          <p:nvPr/>
        </p:nvSpPr>
        <p:spPr>
          <a:xfrm>
            <a:off x="539640" y="47628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Количество вновь начатых в рамках Программы бизнес-про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71680" y="1285920"/>
          <a:ext cx="7992720" cy="2359080"/>
        </p:xfrm>
        <a:graphic>
          <a:graphicData uri="http://schemas.openxmlformats.org/drawingml/2006/table">
            <a:tbl>
              <a:tblPr/>
              <a:tblGrid>
                <a:gridCol w="1941480"/>
                <a:gridCol w="776160"/>
                <a:gridCol w="879480"/>
                <a:gridCol w="879480"/>
                <a:gridCol w="877680"/>
                <a:gridCol w="879480"/>
                <a:gridCol w="879480"/>
                <a:gridCol w="879480"/>
              </a:tblGrid>
              <a:tr h="558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7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того 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217"/>
          <p:cNvSpPr/>
          <p:nvPr/>
        </p:nvSpPr>
        <p:spPr>
          <a:xfrm>
            <a:off x="611280" y="386064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* Включая переходящие проекты, начатые финансированием до 2007 г. в рамках ФЦН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46836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Две «волны» запуска новых бизнес-проектов сопровождались стартом в 2010 г. внепрограммного мероприятия в области развития кооперации ВУЗов и промышленных компаний (около 100 проект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7"/>
          <p:cNvSpPr/>
          <p:nvPr/>
        </p:nvSpPr>
        <p:spPr>
          <a:xfrm>
            <a:off x="539640" y="476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Распределение вновь начатых бизнес-про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по приоритетным направлениям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71680" y="1285920"/>
          <a:ext cx="7992720" cy="4014720"/>
        </p:xfrm>
        <a:graphic>
          <a:graphicData uri="http://schemas.openxmlformats.org/drawingml/2006/table">
            <a:tbl>
              <a:tblPr/>
              <a:tblGrid>
                <a:gridCol w="1941480"/>
                <a:gridCol w="776160"/>
                <a:gridCol w="777960"/>
                <a:gridCol w="792000"/>
                <a:gridCol w="865080"/>
                <a:gridCol w="792360"/>
                <a:gridCol w="863640"/>
                <a:gridCol w="1184040"/>
              </a:tblGrid>
              <a:tr h="7524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  </a:t>
                      </a: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Приоритет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направления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Живые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3  (1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ндустрия наносистем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2  (4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нформационно-телекоммуникационные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  (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Рациональное природополь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1 (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Энергетика и энергосбере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8  (1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того 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94  (10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17"/>
          <p:cNvSpPr/>
          <p:nvPr/>
        </p:nvSpPr>
        <p:spPr>
          <a:xfrm>
            <a:off x="611280" y="5661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* Соответствуют приоритетным направлениям развития науки, технологий и техники в Российской Федерации (утв. Указом Президента РФ от 7 июля 2011 г. N 899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** Включая переходящие проекты, начатые финансированием до 2007 г. в рамках ФЦН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17"/>
          <p:cNvSpPr/>
          <p:nvPr/>
        </p:nvSpPr>
        <p:spPr>
          <a:xfrm>
            <a:off x="539640" y="476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Распределение заявок на формирование тематики бизнес-про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по приоритетным направлениям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7"/>
          <p:cNvSpPr/>
          <p:nvPr/>
        </p:nvSpPr>
        <p:spPr>
          <a:xfrm>
            <a:off x="611280" y="494172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* Соответствуют приоритетным направлениям развития науки, технологий и техники в Российской Федерации (утв. Указом Президента РФ от 7 июля 2011 г. N 899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197000"/>
          <a:ext cx="7993080" cy="3654360"/>
        </p:xfrm>
        <a:graphic>
          <a:graphicData uri="http://schemas.openxmlformats.org/drawingml/2006/table">
            <a:tbl>
              <a:tblPr/>
              <a:tblGrid>
                <a:gridCol w="1942920"/>
                <a:gridCol w="774720"/>
                <a:gridCol w="779400"/>
                <a:gridCol w="792360"/>
                <a:gridCol w="792000"/>
                <a:gridCol w="863640"/>
                <a:gridCol w="863640"/>
                <a:gridCol w="1184400"/>
              </a:tblGrid>
              <a:tr h="558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  </a:t>
                      </a: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Приоритет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направления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558ed5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Живые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38  (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ндустрия наносистем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35  (2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нформационно-телекоммуникационные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97  (1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Рациональное природополь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14  (1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Энергетика и энергосбере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02  (2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того 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186  (10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6" name="Содержимое 2"/>
          <p:cNvSpPr/>
          <p:nvPr/>
        </p:nvSpPr>
        <p:spPr>
          <a:xfrm>
            <a:off x="46836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В среднем процедуру отбора успешно проходила каждая СЕДЬМАЯ заяв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о ПН «ИНМ» - каждая ДВЕНАДЦАТАЯ зая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250920" y="40464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Итоги реализации механизмов ЧГП в рамках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Book Antiqua"/>
              </a:rPr>
              <a:t>(</a:t>
            </a: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по мероприятиям 2.7, 3.1, 3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79280" y="1341360"/>
            <a:ext cx="316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 рамках реализации мероприятия Программы отработаны механизмы государственно-частного  партнерства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Привлечено более </a:t>
            </a:r>
            <a:r>
              <a:rPr b="1" lang="ru-RU" sz="1400" spc="-1" strike="noStrike">
                <a:solidFill>
                  <a:srgbClr val="0070c0"/>
                </a:solidFill>
                <a:latin typeface="Book Antiqua"/>
                <a:ea typeface="Arial"/>
              </a:rPr>
              <a:t>12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млрд. руб. внебюджетных сре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Объем продаж новой и усовершенствованной продукции превысил </a:t>
            </a:r>
            <a:r>
              <a:rPr b="1" lang="ru-RU" sz="1400" spc="-1" strike="noStrike">
                <a:solidFill>
                  <a:srgbClr val="0070c0"/>
                </a:solidFill>
                <a:latin typeface="Book Antiqua"/>
                <a:ea typeface="Arial"/>
              </a:rPr>
              <a:t>156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млрд. рублей (</a:t>
            </a:r>
            <a:r>
              <a:rPr b="1" lang="ru-RU" sz="1400" spc="-1" strike="noStrike">
                <a:solidFill>
                  <a:srgbClr val="0070c0"/>
                </a:solidFill>
                <a:latin typeface="Book Antiqua"/>
                <a:ea typeface="Arial"/>
              </a:rPr>
              <a:t>17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- поставки на экспор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Освоено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свыше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Book Antiqua"/>
                <a:ea typeface="Arial"/>
              </a:rPr>
              <a:t>100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  <a:ea typeface="Arial"/>
              </a:rPr>
              <a:t>видов инновационной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Диаграмма 4" descr=""/>
          <p:cNvPicPr/>
          <p:nvPr/>
        </p:nvPicPr>
        <p:blipFill>
          <a:blip r:embed="rId1"/>
          <a:stretch/>
        </p:blipFill>
        <p:spPr>
          <a:xfrm>
            <a:off x="3441600" y="1305000"/>
            <a:ext cx="55022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2602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Бюджетная эффективность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 Antiqua"/>
              </a:rPr>
              <a:t>по мероприятиям 2.7, 3.1,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052640"/>
          <a:ext cx="8136000" cy="3654360"/>
        </p:xfrm>
        <a:graphic>
          <a:graphicData uri="http://schemas.openxmlformats.org/drawingml/2006/table">
            <a:tbl>
              <a:tblPr/>
              <a:tblGrid>
                <a:gridCol w="2295720"/>
                <a:gridCol w="1111320"/>
                <a:gridCol w="556920"/>
                <a:gridCol w="835200"/>
                <a:gridCol w="625320"/>
                <a:gridCol w="1113120"/>
                <a:gridCol w="695160"/>
                <a:gridCol w="903240"/>
              </a:tblGrid>
              <a:tr h="95436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Бюджетные средства (2007-201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г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небюджетные средства (2007-201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г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Фактическая реализация прод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Бюджетная эффектив-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(раз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  <a:tr h="70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млн.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млн.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млн.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 197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 463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787,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3.1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55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6 600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6 002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Мероприятие 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 575,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 355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2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71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,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Итого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 324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6 419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56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5</a:t>
                      </a: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60,</a:t>
                      </a:r>
                      <a:r>
                        <a:rPr b="1" lang="en-US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17375e"/>
                          </a:solidFill>
                          <a:latin typeface="Book Antiqua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558ed5"/>
                      </a:solidFill>
                    </a:lnL>
                    <a:lnR w="5760">
                      <a:solidFill>
                        <a:srgbClr val="558ed5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2"/>
          <p:cNvSpPr/>
          <p:nvPr/>
        </p:nvSpPr>
        <p:spPr>
          <a:xfrm>
            <a:off x="468360" y="4797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* Включая переходящие проекты, начатые финансированием до 2007 г. в рамках ФЦН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Book Antiqua"/>
              </a:rPr>
              <a:t>Бюджетная эффективность определяется как отношение объемов реализации инновационной продукции к объему вложенных в проекты бюджетных средс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46836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о мероприятию 2.7 начало исполнения инициаторами проектов обязательств по коммерциализации наступает в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0:49:33Z</dcterms:created>
  <dc:creator>shurtakov</dc:creator>
  <dc:description/>
  <dc:language>en-US</dc:language>
  <cp:lastModifiedBy>андр</cp:lastModifiedBy>
  <dcterms:modified xsi:type="dcterms:W3CDTF">2013-09-24T09:08:47Z</dcterms:modified>
  <cp:revision>556</cp:revision>
  <dc:subject/>
  <dc:title>Исполнение бюджета Программы</dc:title>
</cp:coreProperties>
</file>