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</p:sldIdLst>
  <p:sldSz cx="10152063" cy="758825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 type="dt" idx="76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 type="sldImg"/>
          </p:nvPr>
        </p:nvSpPr>
        <p:spPr>
          <a:xfrm>
            <a:off x="911160" y="746280"/>
            <a:ext cx="497520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6000" spc="-1" strike="noStrike">
                <a:solidFill>
                  <a:srgbClr val="2f5897"/>
                </a:solidFill>
                <a:latin typeface="Palatino Linotype"/>
              </a:rPr>
              <a:t>Click to move the slide</a:t>
            </a: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 type="ftr" idx="77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PlaceHolder 6"/>
          <p:cNvSpPr>
            <a:spLocks noGrp="1"/>
          </p:cNvSpPr>
          <p:nvPr>
            <p:ph type="sldNum" idx="78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E2023394-A6F0-4575-BA34-D269E54DD4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E7E51F37-48A0-41C9-BFDA-6E85AB2477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2E2AAF3-E8FB-4498-9AC1-4EAEF4345A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1"/>
          <p:cNvSpPr>
            <a:spLocks noGrp="1"/>
          </p:cNvSpPr>
          <p:nvPr>
            <p:ph type="sldImg"/>
          </p:nvPr>
        </p:nvSpPr>
        <p:spPr>
          <a:xfrm>
            <a:off x="911160" y="746280"/>
            <a:ext cx="4975200" cy="3720960"/>
          </a:xfrm>
          <a:prstGeom prst="rect">
            <a:avLst/>
          </a:prstGeom>
          <a:ln w="0">
            <a:noFill/>
          </a:ln>
        </p:spPr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913464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7960" y="4387680"/>
            <a:ext cx="913464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13FAC9-A2CD-4B60-AFC8-88C442F50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4DB292-4B7A-4C69-8693-04A43528F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507960" y="-360"/>
            <a:ext cx="9134640" cy="82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EA1CD6-A1D8-4DA1-81C4-270B62411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796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59A1E-2882-4538-82B6-39F29EC8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18868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1EA731-A17D-4374-B248-5A1F704D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07960" y="4387680"/>
            <a:ext cx="913464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BBE19F-A78E-44AC-AA19-72D7A435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913464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07960" y="4387680"/>
            <a:ext cx="913464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7E4149-6F49-4D23-B566-62D0D28AD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0796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518868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6C387B-6FD2-4252-B953-B5F53ED93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596760" y="177120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685200" y="177120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507960" y="438768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596760" y="438768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685200" y="438768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72E81A-D2D3-4E29-A257-C9CC7165F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C66582-F847-475F-933B-B34A735CE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796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8868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7960" y="1771200"/>
            <a:ext cx="9134640" cy="50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2409C7-C75F-4136-B3D1-F8FB41CF9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913464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B7161E-5C68-463F-A654-89B6E3BBE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86FEA3-F04B-4F69-A4C2-C1D4FBA93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FA1269-C71A-4E70-9F88-A4C5BF25A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7960" y="-360"/>
            <a:ext cx="9134640" cy="82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49D4C0-CCEA-4A02-BCED-475943D02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796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AB77EA-89E2-4834-8E88-3D00B525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18868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1A4EA4-132F-4402-A0C6-B63FA87E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7960" y="4387680"/>
            <a:ext cx="913464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06A834-EB97-42E1-AA52-802E8D5E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913464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7960" y="4387680"/>
            <a:ext cx="913464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CC32CE-4497-42DF-8F2D-D79421ED8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796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518868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0F0DB4-4728-4A21-B0AA-59766D3F8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96760" y="177120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85200" y="177120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7960" y="438768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96760" y="438768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85200" y="438768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96760" y="177120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685200" y="177120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7960" y="438768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96760" y="438768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685200" y="438768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0B084B-C8C0-4257-91A1-12652FA4A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8B5FC5-321F-46C5-A69A-A104FF7EC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507960" y="1771200"/>
            <a:ext cx="9134640" cy="50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E0EE4B-A997-4F30-A047-FE5CE96F1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913464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4E859E-CC30-4AAE-8E8A-B5A50E9CC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200AC5-B9B3-4CE5-B6A5-135EA8785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55AFC1-BD78-46FD-A15D-36FA7F774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507960" y="-360"/>
            <a:ext cx="9134640" cy="82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C1E44C-0D89-484D-A8C1-9DDD2D3F9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0796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C58D1F-E41B-4E58-A3A7-84477DB7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518868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113499-DAB6-48F0-9A3D-429D758C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07960" y="4387680"/>
            <a:ext cx="913464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A8842F-C787-405B-82D6-8E9075D2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4850-08F9-45FF-A102-927E23DE9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913464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07960" y="4387680"/>
            <a:ext cx="913464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503ED7-AA35-4A8A-BDD9-A31E090CF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0796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518868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1047FF-C974-46A8-9E02-13A20AFA7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596760" y="177120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685200" y="177120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507960" y="438768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596760" y="438768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685200" y="438768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881186-0559-49D9-9006-377FF86B9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A8FC04-0D9C-4A94-86DB-487D0AF0D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7960" y="1771200"/>
            <a:ext cx="9134640" cy="50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4A7292-EB61-474B-8BB4-FB9BC7C21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913464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7FA753-D262-4827-BE0D-5AC44C390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A37C09-6D9D-4AD9-A45B-168ED3635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7AEF3D-CBA6-4EA0-996A-9AE77269A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7960" y="-360"/>
            <a:ext cx="9134640" cy="82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56848E-9B0F-47CE-8C4B-5EAC36A04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796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DD220E-571C-4A4E-A0BA-1CED57AF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7960" y="1771200"/>
            <a:ext cx="9134640" cy="50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5E7F-8500-4D76-9E1A-FFBEA2926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18868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B28742-F5BD-4380-BD8B-CC41C2A2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7960" y="4387680"/>
            <a:ext cx="913464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C78008-AD74-4E3D-983B-F8555202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913464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7960" y="4387680"/>
            <a:ext cx="913464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7A5008-EB17-4C49-9070-471A1F5AA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796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518868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CB6956-80BF-4307-90E2-EED802984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596760" y="177120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685200" y="177120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7960" y="438768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596760" y="438768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685200" y="438768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837FC4-63CA-43CB-B2AB-63A4DFC42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B780D6-7E27-4EE9-9F8E-73D13F4E8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507960" y="1771200"/>
            <a:ext cx="9134640" cy="50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BB404D-E095-4F4F-9D01-885AFE121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913464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288B39-BF15-4038-B555-6FA193C94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6BE907-3D3F-42FE-8339-7725D1DF7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58818B-0634-420A-AE7E-BCBDC5986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913464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8D21-4517-4630-AB64-FFAFCA12F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507960" y="-360"/>
            <a:ext cx="9134640" cy="82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AAF81E-3E23-4E79-9686-43119417E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50796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65FB57-E0EC-4C71-BE9A-E07EEEE0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518868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BB4D74-18F9-40A8-962D-DA8ECAD1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07960" y="4387680"/>
            <a:ext cx="913464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E15233-0B6E-4400-AB79-A85358B4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913464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07960" y="4387680"/>
            <a:ext cx="913464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60DE2D-AD2B-4B41-81C2-7CBB0155C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0796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18868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8704C4-55B7-426F-8E4C-095E1177A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596760" y="177120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685200" y="177120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507960" y="438768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596760" y="438768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685200" y="438768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3898EA-E9B9-432F-AC94-76EE4415B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0B9D12-F19D-48CF-B393-42166D2A8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507960" y="1771200"/>
            <a:ext cx="9134640" cy="50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F60BF7-CF05-4E3C-AE70-5F0000F17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913464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AD141C-9A45-44FF-9309-7C984D5D7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936F-ABE5-4A13-A481-2F0BF0D77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3F1CCC-1FA5-44B1-9674-66783389D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E0BD1E-359F-4FA4-B56D-B8E2C9CEF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507960" y="-360"/>
            <a:ext cx="9134640" cy="82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D55D24-DB09-484C-A749-3B333CDBA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50796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E49E59-598D-46B5-85AF-5EA501F1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18868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C1B62E-9715-4ED0-9BA7-6BE373B9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07960" y="4387680"/>
            <a:ext cx="913464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1F5D38-B9AD-4242-9776-0B0B6520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913464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07960" y="4387680"/>
            <a:ext cx="913464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90F44A-A46C-431A-8185-BFBE1482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0796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518868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4025EC-04E3-4E61-B2FE-F6B50735D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596760" y="177120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685200" y="177120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507960" y="438768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596760" y="438768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685200" y="438768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6596AF-3A97-4E1C-8E1F-794E69E15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A0CE45-9605-4C9D-A211-799450E95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B6B9-CA9F-4110-B4DB-6189C0EF1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507960" y="1771200"/>
            <a:ext cx="9134640" cy="50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5406D4-0145-42A9-9549-BF1ED2433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913464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7F8AF2-5385-489F-81F9-D1566711E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D69D4D-83D8-4589-97EF-6449A0D21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D951E8-87F2-462C-A4CA-EC5D43925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507960" y="-360"/>
            <a:ext cx="9134640" cy="82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6DAD69-E719-4937-8643-8828AFB2D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50796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E486E3-A1BB-4BEE-99C3-11092E6E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18868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EC6FD7-2FA3-4451-858B-E3C4F379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507960" y="4387680"/>
            <a:ext cx="913464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D41798-EC08-4E2A-9377-626AAA91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913464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507960" y="4387680"/>
            <a:ext cx="913464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D5243D-8219-4FE1-8414-798D26EFD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796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518868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41C902-1129-480F-8864-80CD972C5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7960" y="-360"/>
            <a:ext cx="9134640" cy="82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D448-57D9-4AE6-AA9A-30298FB92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596760" y="177120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685200" y="177120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507960" y="438768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596760" y="438768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685200" y="438768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598807-692F-4F98-97A8-A2FB62378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BC8BF42-5FB6-4C94-94E7-E446EF3EF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507960" y="1771200"/>
            <a:ext cx="9134640" cy="50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C54E50A-4652-40AC-94EB-C38730C9A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913464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C20C168-8A85-4E8E-84E6-49B88E49F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1C5099B-9DDC-4843-B669-3D976B0B4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F141502-6F87-45FC-9313-3CF8B2CCB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507960" y="-360"/>
            <a:ext cx="9134640" cy="82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E44F67D-7D8B-4CED-8AA7-1C39E019A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50796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BEC0632-3AE7-4D38-BC04-071C186B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18868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903A061-B0C9-487E-9453-DED46B28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507960" y="4387680"/>
            <a:ext cx="913464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2543F3A-23CC-47CB-81F4-7A7AD016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796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CF6C-701D-4786-9708-1DF82B52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913464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507960" y="4387680"/>
            <a:ext cx="913464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7F915D9-E848-4493-AC75-C5C8F6778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50796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518868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1123916-B578-4529-B5EF-322042969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596760" y="177120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6685200" y="177120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507960" y="438768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3596760" y="438768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6685200" y="438768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6A6DE0E-4262-4EBD-AD16-362896E8F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DA7952-8E53-4AFA-9814-974F2F74B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507960" y="1771200"/>
            <a:ext cx="9134640" cy="50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FD7B2F-B0A8-4D7B-8067-6C02B9A85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913464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C2A55B-B016-42CE-8F37-A6A3EFEEF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B0AED5-C0B6-4132-860C-48C3DCE62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8C6643-52C2-4D6C-BDFF-9C8484FD5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507960" y="-360"/>
            <a:ext cx="9134640" cy="82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0FDE0C-C96B-4050-8FA1-2D5292F44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50796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23B771-A95D-40C5-A6D2-1CB9354E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7960" y="1771200"/>
            <a:ext cx="9134640" cy="50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8868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711C-963A-47F4-A1D1-20C4CA80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518868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594605-FFD9-4E17-9DBC-8C835FB7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507960" y="4387680"/>
            <a:ext cx="913464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329A2D-3730-4BBA-8844-9421BAF1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913464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507960" y="4387680"/>
            <a:ext cx="913464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0A39A5-DF19-4A98-BDFF-1A4372124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0796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518868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530670-9026-4FE8-920C-447E5490A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596760" y="177120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685200" y="177120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507960" y="438768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596760" y="438768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685200" y="438768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6722B4-C10F-42C3-A768-DD5FEEC7D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F7F1BA-CC04-474B-AB2E-5EA269C72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507960" y="1771200"/>
            <a:ext cx="9134640" cy="50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B6B5F8-4373-41E2-BFCA-CB3ED6A6A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913464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9915C4-0F44-463F-BBF2-51B42DABE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A117A0-4B0E-4573-AC28-C3F24A5F3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29F1A8-3A74-4734-A526-290D19F08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7960" y="4387680"/>
            <a:ext cx="913464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720D-34AB-4583-B374-F709A1A1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507960" y="-360"/>
            <a:ext cx="9134640" cy="82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F37D13-5C21-432D-86EE-B005EF00C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50796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AAAC1A-4606-422F-8CE1-A7F8E805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18868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2BF6A4-BBC3-48C0-B662-08E11EE0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507960" y="4387680"/>
            <a:ext cx="913464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229188-7DC2-40BE-A0A2-AD19F78D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913464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507960" y="4387680"/>
            <a:ext cx="913464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B2F4B6-DD05-4843-A207-4ECA26521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50796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518868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B3A4C3-1CBD-4100-93F1-A8CF86645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596760" y="177120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685200" y="177120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507960" y="438768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3596760" y="438768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6685200" y="438768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2FFE4A-530C-4485-9DB0-9FB668AE7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2516C1-1CCD-4BCD-816E-C991BECB9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07960" y="1771200"/>
            <a:ext cx="9134640" cy="50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A92DF8-963B-42FF-8C16-D880FBA6E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913464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9945C9-C38B-4AEB-B62A-2BD3CD03A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913464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7960" y="4387680"/>
            <a:ext cx="913464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F60E-0007-4D59-9D71-91B9359C3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E8782D-F620-42B0-A681-688AD794B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E219C3-2F73-488D-809D-EB549D3E5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07960" y="-360"/>
            <a:ext cx="9134640" cy="82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46979F-3A45-4B8B-BE0E-1261E06FD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796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7EE056-F028-4168-AC90-EF69816B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518868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8229F9-0DD6-4D35-AC0B-82A035A5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07960" y="4387680"/>
            <a:ext cx="913464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16EC18-1EF7-4F34-9AF7-757B2896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913464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07960" y="4387680"/>
            <a:ext cx="913464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A69029-259B-4117-94E6-6129F7063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0796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518868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A5C51C-0152-44C8-A109-F1DBFD68F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596760" y="177120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685200" y="177120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07960" y="438768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596760" y="438768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685200" y="438768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8C66E7-0D8B-4BB1-A48C-2B304D9E0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D79B04-C4E2-4138-9507-73C3A14E7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796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8868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2511-C43D-40CB-984F-E4BECCE9A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7960" y="1771200"/>
            <a:ext cx="9134640" cy="50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D99EB3-C804-423B-B2CE-3341A7F6C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913464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19DBBB-74FE-4FC9-8592-4B28A5424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9CA868-B376-4E1D-BEDB-ABCBF3058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27F3A6-FE80-4AC0-B7DF-851A205B9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7960" y="-360"/>
            <a:ext cx="9134640" cy="82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144947-AAD4-4BAA-A478-6E20EE9EF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796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CC9344-AD0F-4278-84A9-F9E91405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518868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4A0DD1-5817-40DE-9E88-93A2D8BE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7960" y="4387680"/>
            <a:ext cx="913464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6F6E24-43C8-4D64-9A7B-B47553B0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913464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7960" y="4387680"/>
            <a:ext cx="913464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CB5A3D-C1F2-4408-B806-73CC22FA4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796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518868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BC56E0-8A64-4FA3-9AA1-0D7F308CE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96760" y="177120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85200" y="177120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7960" y="438768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96760" y="438768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85200" y="438768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5D0E-E407-4B11-86F4-ED330C9FA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596760" y="177120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685200" y="177120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7960" y="438768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596760" y="438768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685200" y="438768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92EE0D-5DC6-4DB5-9C3A-4264D4ABD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3E893A-B0D7-4204-827E-F3CC75D58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 type="subTitle"/>
          </p:nvPr>
        </p:nvSpPr>
        <p:spPr>
          <a:xfrm>
            <a:off x="507960" y="1771200"/>
            <a:ext cx="9134640" cy="50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B468B0-2FAA-46A6-9295-8AF2434E1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913464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E59A66-D676-439B-A466-C31DC14C4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753E2E-4653-47C4-AE59-98B4D098A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793E36-E49C-4489-9250-03856B631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ubTitle"/>
          </p:nvPr>
        </p:nvSpPr>
        <p:spPr>
          <a:xfrm>
            <a:off x="507960" y="-360"/>
            <a:ext cx="9134640" cy="82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0A606C-3472-41A9-A60A-3DFD9476A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50796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D4A45B-8E39-47DE-BF7D-8E3B349D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18868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175A78-AB46-42E2-9C80-3FF8BFCB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507960" y="4387680"/>
            <a:ext cx="913464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FE6A43-CC5D-4467-AA1E-16CD9518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D39CC-961D-4BF9-BD65-8B4F43D73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913464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507960" y="4387680"/>
            <a:ext cx="913464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D2C24F-0A98-4A00-B37F-080A72B9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796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518868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B1B17C-7998-48AC-A010-721AA4756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3596760" y="177120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6685200" y="177120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/>
          </p:nvPr>
        </p:nvSpPr>
        <p:spPr>
          <a:xfrm>
            <a:off x="507960" y="438768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04" name="PlaceHolder 6"/>
          <p:cNvSpPr>
            <a:spLocks noGrp="1"/>
          </p:cNvSpPr>
          <p:nvPr>
            <p:ph/>
          </p:nvPr>
        </p:nvSpPr>
        <p:spPr>
          <a:xfrm>
            <a:off x="3596760" y="438768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05" name="PlaceHolder 7"/>
          <p:cNvSpPr>
            <a:spLocks noGrp="1"/>
          </p:cNvSpPr>
          <p:nvPr>
            <p:ph/>
          </p:nvPr>
        </p:nvSpPr>
        <p:spPr>
          <a:xfrm>
            <a:off x="6685200" y="438768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8414A0-F361-4FB1-B04A-292302D3E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59D2AE-844C-4B42-97B6-D0BD895FC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subTitle"/>
          </p:nvPr>
        </p:nvSpPr>
        <p:spPr>
          <a:xfrm>
            <a:off x="507960" y="1771200"/>
            <a:ext cx="9134640" cy="50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AF5949-A6A9-4607-BF86-0C543F54E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913464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A5627E-769A-4BD2-9A26-EE76D1D4D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D3BF83-9A8A-437A-B104-2BFAD87CD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5321F9-4E82-495C-8A94-BC49D4B90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ubTitle"/>
          </p:nvPr>
        </p:nvSpPr>
        <p:spPr>
          <a:xfrm>
            <a:off x="507960" y="-360"/>
            <a:ext cx="9134640" cy="82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DB38EB-DA91-4D6C-BD51-80CAABA6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50796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0B5464-D30A-4A96-9970-DA62F2EF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7960" y="1771200"/>
            <a:ext cx="9134640" cy="50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0B7FA-DC05-4139-8CDC-4719ACAEC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518868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710ED8-16D5-404F-9E65-A6C4AC84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507960" y="4387680"/>
            <a:ext cx="913464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495B50-61E7-4CD7-ADAA-FD2341BC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913464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507960" y="4387680"/>
            <a:ext cx="913464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441D67-4494-47A0-A0D4-A1CA3CB80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50796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518868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528C9E-53E1-4C83-8D4E-04EDB0779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3596760" y="177120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6685200" y="177120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507960" y="438768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47" name="PlaceHolder 6"/>
          <p:cNvSpPr>
            <a:spLocks noGrp="1"/>
          </p:cNvSpPr>
          <p:nvPr>
            <p:ph/>
          </p:nvPr>
        </p:nvSpPr>
        <p:spPr>
          <a:xfrm>
            <a:off x="3596760" y="438768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48" name="PlaceHolder 7"/>
          <p:cNvSpPr>
            <a:spLocks noGrp="1"/>
          </p:cNvSpPr>
          <p:nvPr>
            <p:ph/>
          </p:nvPr>
        </p:nvSpPr>
        <p:spPr>
          <a:xfrm>
            <a:off x="6685200" y="438768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3F3F30-0EF9-4E4B-B662-E6B6E573D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D9F1141-E7D9-46D0-ABF8-F4602495A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 type="subTitle"/>
          </p:nvPr>
        </p:nvSpPr>
        <p:spPr>
          <a:xfrm>
            <a:off x="507960" y="1771200"/>
            <a:ext cx="9134640" cy="50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43F4F5B-BEC0-4AD8-8019-87348E16B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913464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42C95F-2C8E-4A0C-BABD-02497CED3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1C6437A-8137-412D-BD8F-147595EB3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E2D677A-EB3E-4B72-B949-4835E32F0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913464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6FC66-D68C-4763-A7DD-BB3329468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subTitle"/>
          </p:nvPr>
        </p:nvSpPr>
        <p:spPr>
          <a:xfrm>
            <a:off x="507960" y="-360"/>
            <a:ext cx="9134640" cy="82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C255F69-0530-4D80-8756-5A10AE133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0796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625622E-A8DF-4F74-8A4F-E658B16F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518868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ECFCD4C-DD36-4A51-A5ED-9FA11E2D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507960" y="4387680"/>
            <a:ext cx="913464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82AFACA-E1CC-4958-9E23-3855CF8C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913464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507960" y="4387680"/>
            <a:ext cx="913464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96446EA-0F15-4AFD-B721-BAA63AA23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796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/>
          </p:nvPr>
        </p:nvSpPr>
        <p:spPr>
          <a:xfrm>
            <a:off x="518868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C017D3D-4E54-4312-92B5-9490F9242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3596760" y="177120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6685200" y="177120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/>
          </p:nvPr>
        </p:nvSpPr>
        <p:spPr>
          <a:xfrm>
            <a:off x="507960" y="438768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90" name="PlaceHolder 6"/>
          <p:cNvSpPr>
            <a:spLocks noGrp="1"/>
          </p:cNvSpPr>
          <p:nvPr>
            <p:ph/>
          </p:nvPr>
        </p:nvSpPr>
        <p:spPr>
          <a:xfrm>
            <a:off x="3596760" y="438768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91" name="PlaceHolder 7"/>
          <p:cNvSpPr>
            <a:spLocks noGrp="1"/>
          </p:cNvSpPr>
          <p:nvPr>
            <p:ph/>
          </p:nvPr>
        </p:nvSpPr>
        <p:spPr>
          <a:xfrm>
            <a:off x="6685200" y="438768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E8AB32C-FB11-417A-9000-6702B36D7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672DDCF-C17C-4BC0-86A0-CE786C5C8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subTitle"/>
          </p:nvPr>
        </p:nvSpPr>
        <p:spPr>
          <a:xfrm>
            <a:off x="507960" y="1771200"/>
            <a:ext cx="9134640" cy="50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9E253A2-0FAB-443E-B126-1ED9862C0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913464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48A3DC3-CD5B-4F57-8C85-570F59EE9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93428-5D1D-4989-B68C-677679C08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32F453B-0ADB-4A53-A090-FC1A99A7E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3957866-9AC5-4D31-A22B-55E44C404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subTitle"/>
          </p:nvPr>
        </p:nvSpPr>
        <p:spPr>
          <a:xfrm>
            <a:off x="507960" y="-360"/>
            <a:ext cx="9134640" cy="82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EAFFD57-67B3-417B-B3CE-A724AE604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50796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8502302-83D0-41D2-860C-71D70BBA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518868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1C59172-4879-4CB5-94DA-F7B3A755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7960" y="4387680"/>
            <a:ext cx="913464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2A9F496-3764-436E-8CD0-E9315733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913464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507960" y="4387680"/>
            <a:ext cx="913464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66AC950-FF33-40A2-87B7-88AA94B79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50796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/>
          </p:nvPr>
        </p:nvSpPr>
        <p:spPr>
          <a:xfrm>
            <a:off x="518868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E785CB7-2A35-45C8-A7E9-890B420D5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3596760" y="177120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6685200" y="177120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507960" y="438768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33" name="PlaceHolder 6"/>
          <p:cNvSpPr>
            <a:spLocks noGrp="1"/>
          </p:cNvSpPr>
          <p:nvPr>
            <p:ph/>
          </p:nvPr>
        </p:nvSpPr>
        <p:spPr>
          <a:xfrm>
            <a:off x="3596760" y="438768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34" name="PlaceHolder 7"/>
          <p:cNvSpPr>
            <a:spLocks noGrp="1"/>
          </p:cNvSpPr>
          <p:nvPr>
            <p:ph/>
          </p:nvPr>
        </p:nvSpPr>
        <p:spPr>
          <a:xfrm>
            <a:off x="6685200" y="438768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DA56AEA-8306-4D54-8751-4CDD07D70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8B90806-B7F9-4A68-815E-AFC648578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D3C02-8511-4D31-86FB-FADABD2E9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7960" y="1771200"/>
            <a:ext cx="9134640" cy="50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5E1B0ED-9F90-49EE-A450-680521EB0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913464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A561FDF-689B-4A86-956F-984B1C17F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BF8D0FB-E7CE-4F43-8321-D5E2FF5A4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67CBB00-9A85-42C9-8190-C4BC41D74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7960" y="-360"/>
            <a:ext cx="9134640" cy="82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2D6224C-A90D-4CEC-9CA6-61F732035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796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C5A7E5E-3BA4-4078-B1AD-8BA4CA6A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518868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5413222-5027-4C4C-9F7F-382665F2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7960" y="4387680"/>
            <a:ext cx="913464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EBB7CA3-8972-4ECB-A311-B7C15270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913464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7960" y="4387680"/>
            <a:ext cx="913464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85F05C6-0F3A-4E2E-B429-E63A8ABCA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796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518868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3477936-5ADC-4299-98AE-CB57FCD1B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913464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7960" y="-360"/>
            <a:ext cx="9134640" cy="82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D17B2-C5F6-4747-85A3-15BAD5DF4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596760" y="177120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685200" y="177120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7960" y="438768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596760" y="438768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685200" y="438768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16BA1AD-9FB9-40B9-9FB8-F2D1C0D72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93438A4-441A-4A04-9EB2-B89CE1591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subTitle"/>
          </p:nvPr>
        </p:nvSpPr>
        <p:spPr>
          <a:xfrm>
            <a:off x="507960" y="1771200"/>
            <a:ext cx="9134640" cy="50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27CB297-E974-4944-8580-BBB46ADC1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913464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8CE60A6-0A04-4579-9297-AA99CFB71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66D4FE6-5314-4063-935E-67BA9016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B2687FD-DED7-4C52-B562-21B120A28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ubTitle"/>
          </p:nvPr>
        </p:nvSpPr>
        <p:spPr>
          <a:xfrm>
            <a:off x="507960" y="-360"/>
            <a:ext cx="9134640" cy="82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E3A01D1-7425-4986-B130-216E56626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796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ED966D5-FD99-4835-9F37-0DB3754B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518868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6ECB97F-D789-422D-8CE2-162FE6E2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507960" y="4387680"/>
            <a:ext cx="913464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9EFB6C4-5A5B-492C-8DB7-FF64BBC7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796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901B0-2668-4E38-8010-1949CBD7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913464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507960" y="4387680"/>
            <a:ext cx="913464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38A4479-4032-4612-9FCF-54A87BAB7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50796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/>
          </p:nvPr>
        </p:nvSpPr>
        <p:spPr>
          <a:xfrm>
            <a:off x="518868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5877C13-09A0-4AFF-8C85-CD13D3B3E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3596760" y="177120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6685200" y="177120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/>
          </p:nvPr>
        </p:nvSpPr>
        <p:spPr>
          <a:xfrm>
            <a:off x="507960" y="438768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19" name="PlaceHolder 6"/>
          <p:cNvSpPr>
            <a:spLocks noGrp="1"/>
          </p:cNvSpPr>
          <p:nvPr>
            <p:ph/>
          </p:nvPr>
        </p:nvSpPr>
        <p:spPr>
          <a:xfrm>
            <a:off x="3596760" y="438768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20" name="PlaceHolder 7"/>
          <p:cNvSpPr>
            <a:spLocks noGrp="1"/>
          </p:cNvSpPr>
          <p:nvPr>
            <p:ph/>
          </p:nvPr>
        </p:nvSpPr>
        <p:spPr>
          <a:xfrm>
            <a:off x="6685200" y="438768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952A790-F58D-420F-866A-C38679410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18868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049CB-599F-464B-88CF-8E01DF46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7960" y="4387680"/>
            <a:ext cx="913464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DB90D-DFD1-4D24-AC52-34EF5202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913464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7960" y="4387680"/>
            <a:ext cx="913464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4E67E-9379-4EBA-9309-9D2D904A5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796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18868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1F5BD-E4FD-43D0-8D86-80557A539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596760" y="177120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685200" y="177120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7960" y="438768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596760" y="438768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685200" y="438768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8706C-8B7B-4FEF-B403-A3B8F63C8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9576E-A244-4449-87E8-544D94196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07960" y="1771200"/>
            <a:ext cx="9134640" cy="50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D7ACA-7D34-46AF-BEE3-B2EB82642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913464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518D3-E65E-4E05-B7C3-54CFF23B1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85A46-9E63-4AB9-A40A-9E250B8FC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203E6-4DB5-4733-BFCB-58202EE63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507960" y="-360"/>
            <a:ext cx="9134640" cy="82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B3393-41F6-4182-8074-8D50D1AB4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96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88CC4-2415-49D3-ABC9-A07A5E9D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18868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6A089-C024-4A43-81B5-BDF31316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7960" y="4387680"/>
            <a:ext cx="913464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A4BB6-1EE3-49CB-9745-85AA6F48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913464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07960" y="4387680"/>
            <a:ext cx="913464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22A97-6F06-4ED7-AA5E-41F746612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0796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18868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AAF90-4B77-43C0-8897-306C2CDD7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596760" y="177120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685200" y="177120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07960" y="438768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596760" y="438768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685200" y="438768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C60E8-5940-4055-B146-E4EFF11F4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717EDD-81D3-4585-8D34-518EA6942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507960" y="1771200"/>
            <a:ext cx="9134640" cy="50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571516-02D4-4D23-96C3-D49D797AD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913464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DFC9CC-D321-43E5-A81E-9D93EE01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FCA01F-46C3-4679-B94A-15F715F9B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40F7AB-64E0-4937-8728-A40F98ACD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507960" y="-360"/>
            <a:ext cx="9134640" cy="82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1FA393-05D6-4F73-85FA-996A2EF79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0796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50B60E-CB23-4560-8302-7F450F67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18868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CF77C7-071E-4C2C-882B-C8057BCA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7960" y="4387680"/>
            <a:ext cx="913464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B28881-0636-47C2-B609-FDFED11A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913464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7960" y="4387680"/>
            <a:ext cx="913464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5B7D1A-E7DD-4B52-A27C-AC69D1055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0796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18868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846C6B-6AD4-4130-A5B6-DB34FED3B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7960" y="-360"/>
            <a:ext cx="9134640" cy="82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96760" y="177120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685200" y="177120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07960" y="438768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96760" y="438768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685200" y="438768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31C36F-867B-4699-B07D-840033039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A3E51-C255-4370-84C0-D376BAEE7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07960" y="1771200"/>
            <a:ext cx="9134640" cy="50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7E701-E75D-434C-A410-1C67D5539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913464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298FA-0873-4DD8-AE23-09C4E6FE6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4B7A0-C05A-4623-A344-11088026E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93CE4-5CCC-4A3C-B99E-86243758D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07960" y="-360"/>
            <a:ext cx="9134640" cy="82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5EBA0-80BE-43AA-BD2F-C64260D8C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0796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8FA59-557D-406B-9793-7D889F9F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18868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F73A7-D8F5-47D7-9B56-D09548D8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07960" y="4387680"/>
            <a:ext cx="913464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15953-2A4D-43F1-A736-2700C2FD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796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913464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7960" y="4387680"/>
            <a:ext cx="913464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88070-6167-4DCF-8E4F-75670D157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0796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518868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0B4A5-F82C-4161-A9E5-055749786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596760" y="177120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685200" y="177120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07960" y="438768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596760" y="438768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685200" y="438768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EC9F8-E56D-416E-B8E1-266EC549F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EA487-807D-46D1-B82A-CCD7277E6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507960" y="1771200"/>
            <a:ext cx="9134640" cy="50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BBAC0-1E9F-4317-9889-70730571E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913464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CD468-D8F4-4449-8524-5A427AE9C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E91A4-0562-4B56-BFB5-53E5F9D2A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8EBE0-F600-4266-89A0-3458F3484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507960" y="-360"/>
            <a:ext cx="9134640" cy="82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EE44E-41FA-4DE9-A05E-12B49E6E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0796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B80906-D40D-4E0E-94BE-551377F0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8868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18868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9D05E-008B-441B-A0D3-30E1DEAF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07960" y="4387680"/>
            <a:ext cx="913464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915F0-4D84-45B6-9131-F166063A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913464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07960" y="4387680"/>
            <a:ext cx="913464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3B1C9-7D86-4B82-AFA2-0D8DEFDB9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796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518868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189B5-ED37-49C8-807B-A68036850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96760" y="177120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685200" y="177120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507960" y="438768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96760" y="438768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685200" y="438768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752660-9054-45EC-91EC-1DA9B7940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FE80F6-B418-4F21-B757-53C989B89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507960" y="1771200"/>
            <a:ext cx="9134640" cy="50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743F90-67CE-4C41-9165-BB9F6D79B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913464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9ECD3-35EC-44B0-A5F3-503200044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F30EBB-EA59-421A-B44C-78F4B92D4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BF524-73E7-4B3B-9FFB-9948D64D3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7960" y="4387680"/>
            <a:ext cx="913464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507960" y="-360"/>
            <a:ext cx="9134640" cy="82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204276-922A-4EAD-B340-8730163AE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50796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FD04EB-F63E-4C92-B7EE-F9B9F58E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18868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66F75-25F2-415A-AADD-CE3F6E4E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07960" y="4387680"/>
            <a:ext cx="913464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C57F91-64EB-44C1-9FF9-EB0AFFBC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913464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07960" y="4387680"/>
            <a:ext cx="913464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2F564-CC1C-4F09-AA94-70A903B26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0796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18868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E0852-798C-4371-8A3A-772721B03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96760" y="177120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685200" y="177120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507960" y="438768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96760" y="438768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685200" y="438768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F1F58-03B1-4BE8-9EA8-1AC33C405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1E96D9-DF9D-4052-B382-392C55831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507960" y="1771200"/>
            <a:ext cx="9134640" cy="50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DE6B63-F27B-4735-BBB8-72DADCBE3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913464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45F3BB-038D-4731-9FB4-F17C2BA57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1880" y="36684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1" i="1" lang="en-US" sz="3200" spc="-1" strike="noStrike">
                <a:solidFill>
                  <a:srgbClr val="002760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192040"/>
            <a:ext cx="8626320" cy="4513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315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540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250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79520" indent="-252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279520" indent="-252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279520" indent="-252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tangle 5"/>
          <p:cNvGrpSpPr/>
          <p:nvPr/>
        </p:nvGrpSpPr>
        <p:grpSpPr>
          <a:xfrm>
            <a:off x="5456160" y="6797520"/>
            <a:ext cx="4572000" cy="24120"/>
            <a:chOff x="5456160" y="6797520"/>
            <a:chExt cx="4572000" cy="24120"/>
          </a:xfrm>
        </p:grpSpPr>
        <p:pic>
          <p:nvPicPr>
            <p:cNvPr id="3" name="Rectangle 5" descr=""/>
            <p:cNvPicPr/>
            <p:nvPr/>
          </p:nvPicPr>
          <p:blipFill>
            <a:blip r:embed="rId3"/>
            <a:stretch/>
          </p:blipFill>
          <p:spPr>
            <a:xfrm>
              <a:off x="5456160" y="6797520"/>
              <a:ext cx="4572000" cy="2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Text Box 5"/>
            <p:cNvSpPr/>
            <p:nvPr/>
          </p:nvSpPr>
          <p:spPr>
            <a:xfrm>
              <a:off x="5456160" y="6797520"/>
              <a:ext cx="4570560" cy="2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21600" bIns="-21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" name="Text Box 8"/>
          <p:cNvSpPr/>
          <p:nvPr/>
        </p:nvSpPr>
        <p:spPr>
          <a:xfrm>
            <a:off x="6810480" y="6894360"/>
            <a:ext cx="30938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Presented By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Harry Mills /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PRESENTATIONPRO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Oval 6"/>
          <p:cNvSpPr/>
          <p:nvPr/>
        </p:nvSpPr>
        <p:spPr>
          <a:xfrm>
            <a:off x="9388440" y="7192800"/>
            <a:ext cx="93600" cy="939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Oval 7"/>
          <p:cNvSpPr/>
          <p:nvPr/>
        </p:nvSpPr>
        <p:spPr>
          <a:xfrm>
            <a:off x="633240" y="7192800"/>
            <a:ext cx="92160" cy="939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60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7960" y="1771200"/>
            <a:ext cx="913464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675"/>
              </a:spcBef>
              <a:buClr>
                <a:srgbClr val="7f7f7f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1" marL="822240" indent="-315720">
              <a:spcBef>
                <a:spcPts val="675"/>
              </a:spcBef>
              <a:buClr>
                <a:srgbClr val="7f7f7f"/>
              </a:buClr>
              <a:buFont typeface="Courier New"/>
              <a:buChar char="o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2" marL="1266840" indent="-252360">
              <a:spcBef>
                <a:spcPts val="675"/>
              </a:spcBef>
              <a:buClr>
                <a:srgbClr val="7f7f7f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3" marL="1773360" indent="-252360">
              <a:spcBef>
                <a:spcPts val="675"/>
              </a:spcBef>
              <a:buClr>
                <a:srgbClr val="7f7f7f"/>
              </a:buClr>
              <a:buFont typeface="Courier New"/>
              <a:buChar char="o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4" marL="2279520" indent="-252360">
              <a:spcBef>
                <a:spcPts val="675"/>
              </a:spcBef>
              <a:buClr>
                <a:srgbClr val="7f7f7f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5" marL="2279520" indent="-252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6" marL="2279520" indent="-252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5"/>
          </p:nvPr>
        </p:nvSpPr>
        <p:spPr>
          <a:xfrm>
            <a:off x="7064280" y="7033680"/>
            <a:ext cx="2314800" cy="40500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15192-3905-432B-8306-F73A9CC6EDF1}" type="datetime">
              <a:rPr b="0" lang="ru-RU" sz="1300" spc="-1" strike="noStrike">
                <a:solidFill>
                  <a:srgbClr val="595959"/>
                </a:solidFill>
                <a:latin typeface="Century Gothic"/>
              </a:rPr>
              <a:t>31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6"/>
          </p:nvPr>
        </p:nvSpPr>
        <p:spPr>
          <a:xfrm>
            <a:off x="731880" y="7033680"/>
            <a:ext cx="3160800" cy="4050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7"/>
          </p:nvPr>
        </p:nvSpPr>
        <p:spPr>
          <a:xfrm>
            <a:off x="9483480" y="7033680"/>
            <a:ext cx="623880" cy="405000"/>
          </a:xfrm>
          <a:prstGeom prst="rect">
            <a:avLst/>
          </a:prstGeom>
          <a:noFill/>
          <a:ln w="0">
            <a:noFill/>
          </a:ln>
        </p:spPr>
        <p:txBody>
          <a:bodyPr lIns="30240" rIns="5076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EC92C-D3DC-45F8-B555-14A5C6D70081}" type="slidenum">
              <a:rPr b="0" lang="ru-RU" sz="13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Oval 6"/>
          <p:cNvSpPr/>
          <p:nvPr/>
        </p:nvSpPr>
        <p:spPr>
          <a:xfrm>
            <a:off x="9388440" y="7192800"/>
            <a:ext cx="93600" cy="939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Oval 7"/>
          <p:cNvSpPr/>
          <p:nvPr/>
        </p:nvSpPr>
        <p:spPr>
          <a:xfrm>
            <a:off x="633240" y="7192800"/>
            <a:ext cx="92160" cy="939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60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07960" y="1771200"/>
            <a:ext cx="913464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675"/>
              </a:spcBef>
              <a:buClr>
                <a:srgbClr val="7f7f7f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1" marL="822240" indent="-315720">
              <a:spcBef>
                <a:spcPts val="675"/>
              </a:spcBef>
              <a:buClr>
                <a:srgbClr val="7f7f7f"/>
              </a:buClr>
              <a:buFont typeface="Courier New"/>
              <a:buChar char="o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2" marL="1266840" indent="-252360">
              <a:spcBef>
                <a:spcPts val="675"/>
              </a:spcBef>
              <a:buClr>
                <a:srgbClr val="7f7f7f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3" marL="1773360" indent="-252360">
              <a:spcBef>
                <a:spcPts val="675"/>
              </a:spcBef>
              <a:buClr>
                <a:srgbClr val="7f7f7f"/>
              </a:buClr>
              <a:buFont typeface="Courier New"/>
              <a:buChar char="o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4" marL="2279520" indent="-252360">
              <a:spcBef>
                <a:spcPts val="675"/>
              </a:spcBef>
              <a:buClr>
                <a:srgbClr val="7f7f7f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5" marL="2279520" indent="-252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6" marL="2279520" indent="-252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28"/>
          </p:nvPr>
        </p:nvSpPr>
        <p:spPr>
          <a:xfrm>
            <a:off x="7064280" y="7033680"/>
            <a:ext cx="2314800" cy="40500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6FC18-960F-48DC-83A3-40656710D110}" type="datetime">
              <a:rPr b="0" lang="ru-RU" sz="1300" spc="-1" strike="noStrike">
                <a:solidFill>
                  <a:srgbClr val="595959"/>
                </a:solidFill>
                <a:latin typeface="Century Gothic"/>
              </a:rPr>
              <a:t>31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29"/>
          </p:nvPr>
        </p:nvSpPr>
        <p:spPr>
          <a:xfrm>
            <a:off x="731880" y="7033680"/>
            <a:ext cx="3160800" cy="4050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0"/>
          </p:nvPr>
        </p:nvSpPr>
        <p:spPr>
          <a:xfrm>
            <a:off x="9483480" y="7033680"/>
            <a:ext cx="623880" cy="405000"/>
          </a:xfrm>
          <a:prstGeom prst="rect">
            <a:avLst/>
          </a:prstGeom>
          <a:noFill/>
          <a:ln w="0">
            <a:noFill/>
          </a:ln>
        </p:spPr>
        <p:txBody>
          <a:bodyPr lIns="30240" rIns="5076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DE461-2D4D-45DB-940C-361DF6808548}" type="slidenum">
              <a:rPr b="0" lang="ru-RU" sz="13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Oval 6"/>
          <p:cNvSpPr/>
          <p:nvPr/>
        </p:nvSpPr>
        <p:spPr>
          <a:xfrm>
            <a:off x="9388440" y="7192800"/>
            <a:ext cx="93600" cy="939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Oval 7"/>
          <p:cNvSpPr/>
          <p:nvPr/>
        </p:nvSpPr>
        <p:spPr>
          <a:xfrm>
            <a:off x="633240" y="7192800"/>
            <a:ext cx="92160" cy="939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60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7960" y="1771200"/>
            <a:ext cx="913464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675"/>
              </a:spcBef>
              <a:buClr>
                <a:srgbClr val="7f7f7f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1" marL="822240" indent="-315720">
              <a:spcBef>
                <a:spcPts val="675"/>
              </a:spcBef>
              <a:buClr>
                <a:srgbClr val="7f7f7f"/>
              </a:buClr>
              <a:buFont typeface="Courier New"/>
              <a:buChar char="o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2" marL="1266840" indent="-252360">
              <a:spcBef>
                <a:spcPts val="675"/>
              </a:spcBef>
              <a:buClr>
                <a:srgbClr val="7f7f7f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3" marL="1773360" indent="-252360">
              <a:spcBef>
                <a:spcPts val="675"/>
              </a:spcBef>
              <a:buClr>
                <a:srgbClr val="7f7f7f"/>
              </a:buClr>
              <a:buFont typeface="Courier New"/>
              <a:buChar char="o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4" marL="2279520" indent="-252360">
              <a:spcBef>
                <a:spcPts val="675"/>
              </a:spcBef>
              <a:buClr>
                <a:srgbClr val="7f7f7f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5" marL="2279520" indent="-252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6" marL="2279520" indent="-252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1"/>
          </p:nvPr>
        </p:nvSpPr>
        <p:spPr>
          <a:xfrm>
            <a:off x="7064280" y="7033680"/>
            <a:ext cx="2314800" cy="40500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45156-8F29-42BB-9CA1-0056C34EA21A}" type="datetime">
              <a:rPr b="0" lang="ru-RU" sz="1300" spc="-1" strike="noStrike">
                <a:solidFill>
                  <a:srgbClr val="595959"/>
                </a:solidFill>
                <a:latin typeface="Century Gothic"/>
              </a:rPr>
              <a:t>31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2"/>
          </p:nvPr>
        </p:nvSpPr>
        <p:spPr>
          <a:xfrm>
            <a:off x="731880" y="7033680"/>
            <a:ext cx="3160800" cy="4050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3"/>
          </p:nvPr>
        </p:nvSpPr>
        <p:spPr>
          <a:xfrm>
            <a:off x="9483480" y="7033680"/>
            <a:ext cx="623880" cy="405000"/>
          </a:xfrm>
          <a:prstGeom prst="rect">
            <a:avLst/>
          </a:prstGeom>
          <a:noFill/>
          <a:ln w="0">
            <a:noFill/>
          </a:ln>
        </p:spPr>
        <p:txBody>
          <a:bodyPr lIns="30240" rIns="5076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B1432-A33F-4252-AF93-AB4194DBF3C0}" type="slidenum">
              <a:rPr b="0" lang="ru-RU" sz="13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Oval 6"/>
          <p:cNvSpPr/>
          <p:nvPr/>
        </p:nvSpPr>
        <p:spPr>
          <a:xfrm>
            <a:off x="9388440" y="7192800"/>
            <a:ext cx="93600" cy="939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Oval 7"/>
          <p:cNvSpPr/>
          <p:nvPr/>
        </p:nvSpPr>
        <p:spPr>
          <a:xfrm>
            <a:off x="633240" y="7192800"/>
            <a:ext cx="92160" cy="939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60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507960" y="1771200"/>
            <a:ext cx="913464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675"/>
              </a:spcBef>
              <a:buClr>
                <a:srgbClr val="7f7f7f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1" marL="822240" indent="-315720">
              <a:spcBef>
                <a:spcPts val="675"/>
              </a:spcBef>
              <a:buClr>
                <a:srgbClr val="7f7f7f"/>
              </a:buClr>
              <a:buFont typeface="Courier New"/>
              <a:buChar char="o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2" marL="1266840" indent="-252360">
              <a:spcBef>
                <a:spcPts val="675"/>
              </a:spcBef>
              <a:buClr>
                <a:srgbClr val="7f7f7f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3" marL="1773360" indent="-252360">
              <a:spcBef>
                <a:spcPts val="675"/>
              </a:spcBef>
              <a:buClr>
                <a:srgbClr val="7f7f7f"/>
              </a:buClr>
              <a:buFont typeface="Courier New"/>
              <a:buChar char="o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4" marL="2279520" indent="-252360">
              <a:spcBef>
                <a:spcPts val="675"/>
              </a:spcBef>
              <a:buClr>
                <a:srgbClr val="7f7f7f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5" marL="2279520" indent="-252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6" marL="2279520" indent="-252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34"/>
          </p:nvPr>
        </p:nvSpPr>
        <p:spPr>
          <a:xfrm>
            <a:off x="7064280" y="7033680"/>
            <a:ext cx="2314800" cy="40500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DD387-DE38-4845-903E-D9208910B385}" type="datetime">
              <a:rPr b="0" lang="ru-RU" sz="1300" spc="-1" strike="noStrike">
                <a:solidFill>
                  <a:srgbClr val="595959"/>
                </a:solidFill>
                <a:latin typeface="Century Gothic"/>
              </a:rPr>
              <a:t>31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35"/>
          </p:nvPr>
        </p:nvSpPr>
        <p:spPr>
          <a:xfrm>
            <a:off x="731880" y="7033680"/>
            <a:ext cx="3160800" cy="4050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36"/>
          </p:nvPr>
        </p:nvSpPr>
        <p:spPr>
          <a:xfrm>
            <a:off x="9483480" y="7033680"/>
            <a:ext cx="623880" cy="405000"/>
          </a:xfrm>
          <a:prstGeom prst="rect">
            <a:avLst/>
          </a:prstGeom>
          <a:noFill/>
          <a:ln w="0">
            <a:noFill/>
          </a:ln>
        </p:spPr>
        <p:txBody>
          <a:bodyPr lIns="30240" rIns="5076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B57F2-2F3F-4B7A-B7B4-AB7376CEA360}" type="slidenum">
              <a:rPr b="0" lang="ru-RU" sz="13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Oval 6"/>
          <p:cNvSpPr/>
          <p:nvPr/>
        </p:nvSpPr>
        <p:spPr>
          <a:xfrm>
            <a:off x="9388440" y="7192800"/>
            <a:ext cx="93600" cy="939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Oval 7"/>
          <p:cNvSpPr/>
          <p:nvPr/>
        </p:nvSpPr>
        <p:spPr>
          <a:xfrm>
            <a:off x="633240" y="7192800"/>
            <a:ext cx="92160" cy="939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60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507960" y="1771200"/>
            <a:ext cx="913464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675"/>
              </a:spcBef>
              <a:buClr>
                <a:srgbClr val="7f7f7f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1" marL="822240" indent="-315720">
              <a:spcBef>
                <a:spcPts val="675"/>
              </a:spcBef>
              <a:buClr>
                <a:srgbClr val="7f7f7f"/>
              </a:buClr>
              <a:buFont typeface="Courier New"/>
              <a:buChar char="o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2" marL="1266840" indent="-252360">
              <a:spcBef>
                <a:spcPts val="675"/>
              </a:spcBef>
              <a:buClr>
                <a:srgbClr val="7f7f7f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3" marL="1773360" indent="-252360">
              <a:spcBef>
                <a:spcPts val="675"/>
              </a:spcBef>
              <a:buClr>
                <a:srgbClr val="7f7f7f"/>
              </a:buClr>
              <a:buFont typeface="Courier New"/>
              <a:buChar char="o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4" marL="2279520" indent="-252360">
              <a:spcBef>
                <a:spcPts val="675"/>
              </a:spcBef>
              <a:buClr>
                <a:srgbClr val="7f7f7f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5" marL="2279520" indent="-252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6" marL="2279520" indent="-252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37"/>
          </p:nvPr>
        </p:nvSpPr>
        <p:spPr>
          <a:xfrm>
            <a:off x="7064280" y="7033680"/>
            <a:ext cx="2314800" cy="40500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42B3C-3595-4525-BF4B-8BB71AAD5B21}" type="datetime">
              <a:rPr b="0" lang="ru-RU" sz="1300" spc="-1" strike="noStrike">
                <a:solidFill>
                  <a:srgbClr val="595959"/>
                </a:solidFill>
                <a:latin typeface="Century Gothic"/>
              </a:rPr>
              <a:t>31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38"/>
          </p:nvPr>
        </p:nvSpPr>
        <p:spPr>
          <a:xfrm>
            <a:off x="731880" y="7033680"/>
            <a:ext cx="3160800" cy="4050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39"/>
          </p:nvPr>
        </p:nvSpPr>
        <p:spPr>
          <a:xfrm>
            <a:off x="9483480" y="7033680"/>
            <a:ext cx="623880" cy="405000"/>
          </a:xfrm>
          <a:prstGeom prst="rect">
            <a:avLst/>
          </a:prstGeom>
          <a:noFill/>
          <a:ln w="0">
            <a:noFill/>
          </a:ln>
        </p:spPr>
        <p:txBody>
          <a:bodyPr lIns="30240" rIns="5076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05477-098B-4BD0-9905-28936D065DA4}" type="slidenum">
              <a:rPr b="0" lang="ru-RU" sz="13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Oval 6"/>
          <p:cNvSpPr/>
          <p:nvPr/>
        </p:nvSpPr>
        <p:spPr>
          <a:xfrm>
            <a:off x="9388440" y="7192800"/>
            <a:ext cx="93600" cy="939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Oval 7"/>
          <p:cNvSpPr/>
          <p:nvPr/>
        </p:nvSpPr>
        <p:spPr>
          <a:xfrm>
            <a:off x="633240" y="7192800"/>
            <a:ext cx="92160" cy="939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60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507960" y="1771200"/>
            <a:ext cx="913464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675"/>
              </a:spcBef>
              <a:buClr>
                <a:srgbClr val="7f7f7f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1" marL="822240" indent="-315720">
              <a:spcBef>
                <a:spcPts val="675"/>
              </a:spcBef>
              <a:buClr>
                <a:srgbClr val="7f7f7f"/>
              </a:buClr>
              <a:buFont typeface="Courier New"/>
              <a:buChar char="o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2" marL="1266840" indent="-252360">
              <a:spcBef>
                <a:spcPts val="675"/>
              </a:spcBef>
              <a:buClr>
                <a:srgbClr val="7f7f7f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3" marL="1773360" indent="-252360">
              <a:spcBef>
                <a:spcPts val="675"/>
              </a:spcBef>
              <a:buClr>
                <a:srgbClr val="7f7f7f"/>
              </a:buClr>
              <a:buFont typeface="Courier New"/>
              <a:buChar char="o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4" marL="2279520" indent="-252360">
              <a:spcBef>
                <a:spcPts val="675"/>
              </a:spcBef>
              <a:buClr>
                <a:srgbClr val="7f7f7f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5" marL="2279520" indent="-252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6" marL="2279520" indent="-252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40"/>
          </p:nvPr>
        </p:nvSpPr>
        <p:spPr>
          <a:xfrm>
            <a:off x="7064280" y="7033680"/>
            <a:ext cx="2314800" cy="40500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03899-A4B1-45E7-9D5A-52120B442CB2}" type="datetime">
              <a:rPr b="0" lang="ru-RU" sz="1300" spc="-1" strike="noStrike">
                <a:solidFill>
                  <a:srgbClr val="595959"/>
                </a:solidFill>
                <a:latin typeface="Century Gothic"/>
              </a:rPr>
              <a:t>31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41"/>
          </p:nvPr>
        </p:nvSpPr>
        <p:spPr>
          <a:xfrm>
            <a:off x="731880" y="7033680"/>
            <a:ext cx="3160800" cy="4050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42"/>
          </p:nvPr>
        </p:nvSpPr>
        <p:spPr>
          <a:xfrm>
            <a:off x="9483480" y="7033680"/>
            <a:ext cx="623880" cy="405000"/>
          </a:xfrm>
          <a:prstGeom prst="rect">
            <a:avLst/>
          </a:prstGeom>
          <a:noFill/>
          <a:ln w="0">
            <a:noFill/>
          </a:ln>
        </p:spPr>
        <p:txBody>
          <a:bodyPr lIns="30240" rIns="5076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C2AE3-6968-48AD-B158-7BB6790DC0CC}" type="slidenum">
              <a:rPr b="0" lang="ru-RU" sz="13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Oval 6"/>
          <p:cNvSpPr/>
          <p:nvPr/>
        </p:nvSpPr>
        <p:spPr>
          <a:xfrm>
            <a:off x="9388440" y="7192800"/>
            <a:ext cx="93600" cy="939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Oval 7"/>
          <p:cNvSpPr/>
          <p:nvPr/>
        </p:nvSpPr>
        <p:spPr>
          <a:xfrm>
            <a:off x="633240" y="7192800"/>
            <a:ext cx="92160" cy="939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60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507960" y="1771200"/>
            <a:ext cx="913464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675"/>
              </a:spcBef>
              <a:buClr>
                <a:srgbClr val="7f7f7f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1" marL="822240" indent="-315720">
              <a:spcBef>
                <a:spcPts val="675"/>
              </a:spcBef>
              <a:buClr>
                <a:srgbClr val="7f7f7f"/>
              </a:buClr>
              <a:buFont typeface="Courier New"/>
              <a:buChar char="o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2" marL="1266840" indent="-252360">
              <a:spcBef>
                <a:spcPts val="675"/>
              </a:spcBef>
              <a:buClr>
                <a:srgbClr val="7f7f7f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3" marL="1773360" indent="-252360">
              <a:spcBef>
                <a:spcPts val="675"/>
              </a:spcBef>
              <a:buClr>
                <a:srgbClr val="7f7f7f"/>
              </a:buClr>
              <a:buFont typeface="Courier New"/>
              <a:buChar char="o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4" marL="2279520" indent="-252360">
              <a:spcBef>
                <a:spcPts val="675"/>
              </a:spcBef>
              <a:buClr>
                <a:srgbClr val="7f7f7f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5" marL="2279520" indent="-252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6" marL="2279520" indent="-252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 type="dt" idx="43"/>
          </p:nvPr>
        </p:nvSpPr>
        <p:spPr>
          <a:xfrm>
            <a:off x="7064280" y="7033680"/>
            <a:ext cx="2314800" cy="40500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AB8A6-B90D-4211-BEEC-1EC985604F11}" type="datetime">
              <a:rPr b="0" lang="ru-RU" sz="1300" spc="-1" strike="noStrike">
                <a:solidFill>
                  <a:srgbClr val="595959"/>
                </a:solidFill>
                <a:latin typeface="Century Gothic"/>
              </a:rPr>
              <a:t>31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 type="sldNum" idx="44"/>
          </p:nvPr>
        </p:nvSpPr>
        <p:spPr>
          <a:xfrm>
            <a:off x="9483480" y="7033680"/>
            <a:ext cx="623880" cy="405000"/>
          </a:xfrm>
          <a:prstGeom prst="rect">
            <a:avLst/>
          </a:prstGeom>
          <a:noFill/>
          <a:ln w="0">
            <a:noFill/>
          </a:ln>
        </p:spPr>
        <p:txBody>
          <a:bodyPr lIns="30240" rIns="5076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D1ADF-AED6-4777-BBB7-7064476B1B07}" type="slidenum">
              <a:rPr b="0" lang="ru-RU" sz="13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 type="ftr" idx="45"/>
          </p:nvPr>
        </p:nvSpPr>
        <p:spPr>
          <a:xfrm>
            <a:off x="731880" y="7033680"/>
            <a:ext cx="3160800" cy="4050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Oval 6"/>
          <p:cNvSpPr/>
          <p:nvPr/>
        </p:nvSpPr>
        <p:spPr>
          <a:xfrm>
            <a:off x="9388440" y="7192800"/>
            <a:ext cx="93600" cy="939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Oval 7"/>
          <p:cNvSpPr/>
          <p:nvPr/>
        </p:nvSpPr>
        <p:spPr>
          <a:xfrm>
            <a:off x="633240" y="7192800"/>
            <a:ext cx="92160" cy="939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60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507960" y="1771200"/>
            <a:ext cx="913464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675"/>
              </a:spcBef>
              <a:buClr>
                <a:srgbClr val="7f7f7f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1" marL="822240" indent="-315720">
              <a:spcBef>
                <a:spcPts val="675"/>
              </a:spcBef>
              <a:buClr>
                <a:srgbClr val="7f7f7f"/>
              </a:buClr>
              <a:buFont typeface="Courier New"/>
              <a:buChar char="o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2" marL="1266840" indent="-252360">
              <a:spcBef>
                <a:spcPts val="675"/>
              </a:spcBef>
              <a:buClr>
                <a:srgbClr val="7f7f7f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3" marL="1773360" indent="-252360">
              <a:spcBef>
                <a:spcPts val="675"/>
              </a:spcBef>
              <a:buClr>
                <a:srgbClr val="7f7f7f"/>
              </a:buClr>
              <a:buFont typeface="Courier New"/>
              <a:buChar char="o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4" marL="2279520" indent="-252360">
              <a:spcBef>
                <a:spcPts val="675"/>
              </a:spcBef>
              <a:buClr>
                <a:srgbClr val="7f7f7f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5" marL="2279520" indent="-252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6" marL="2279520" indent="-252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46"/>
          </p:nvPr>
        </p:nvSpPr>
        <p:spPr>
          <a:xfrm>
            <a:off x="7064280" y="7033680"/>
            <a:ext cx="2314800" cy="40500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436F3-7D9E-488F-8ED8-9307F469BC1A}" type="datetime">
              <a:rPr b="0" lang="ru-RU" sz="1300" spc="-1" strike="noStrike">
                <a:solidFill>
                  <a:srgbClr val="595959"/>
                </a:solidFill>
                <a:latin typeface="Century Gothic"/>
              </a:rPr>
              <a:t>31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47"/>
          </p:nvPr>
        </p:nvSpPr>
        <p:spPr>
          <a:xfrm>
            <a:off x="731880" y="7033680"/>
            <a:ext cx="3160800" cy="4050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48"/>
          </p:nvPr>
        </p:nvSpPr>
        <p:spPr>
          <a:xfrm>
            <a:off x="9483480" y="7033680"/>
            <a:ext cx="623880" cy="405000"/>
          </a:xfrm>
          <a:prstGeom prst="rect">
            <a:avLst/>
          </a:prstGeom>
          <a:noFill/>
          <a:ln w="0">
            <a:noFill/>
          </a:ln>
        </p:spPr>
        <p:txBody>
          <a:bodyPr lIns="30240" rIns="5076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62778-5733-440C-BBFD-5328286BF976}" type="slidenum">
              <a:rPr b="0" lang="ru-RU" sz="13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Oval 6"/>
          <p:cNvSpPr/>
          <p:nvPr/>
        </p:nvSpPr>
        <p:spPr>
          <a:xfrm>
            <a:off x="9388440" y="7192800"/>
            <a:ext cx="93600" cy="939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Oval 7"/>
          <p:cNvSpPr/>
          <p:nvPr/>
        </p:nvSpPr>
        <p:spPr>
          <a:xfrm>
            <a:off x="633240" y="7192800"/>
            <a:ext cx="92160" cy="939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Oval 6"/>
          <p:cNvSpPr/>
          <p:nvPr/>
        </p:nvSpPr>
        <p:spPr>
          <a:xfrm>
            <a:off x="4991040" y="4343400"/>
            <a:ext cx="93600" cy="921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4760" bIns="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Oval 7"/>
          <p:cNvSpPr/>
          <p:nvPr/>
        </p:nvSpPr>
        <p:spPr>
          <a:xfrm>
            <a:off x="5213520" y="4343400"/>
            <a:ext cx="95040" cy="921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4760" bIns="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Oval 8"/>
          <p:cNvSpPr/>
          <p:nvPr/>
        </p:nvSpPr>
        <p:spPr>
          <a:xfrm>
            <a:off x="4770360" y="4343400"/>
            <a:ext cx="93600" cy="921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4760" bIns="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60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507960" y="1771200"/>
            <a:ext cx="913464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675"/>
              </a:spcBef>
              <a:buClr>
                <a:srgbClr val="7f7f7f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1" marL="822240" indent="-315720">
              <a:spcBef>
                <a:spcPts val="675"/>
              </a:spcBef>
              <a:buClr>
                <a:srgbClr val="7f7f7f"/>
              </a:buClr>
              <a:buFont typeface="Courier New"/>
              <a:buChar char="o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2" marL="1266840" indent="-252360">
              <a:spcBef>
                <a:spcPts val="675"/>
              </a:spcBef>
              <a:buClr>
                <a:srgbClr val="7f7f7f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3" marL="1773360" indent="-252360">
              <a:spcBef>
                <a:spcPts val="675"/>
              </a:spcBef>
              <a:buClr>
                <a:srgbClr val="7f7f7f"/>
              </a:buClr>
              <a:buFont typeface="Courier New"/>
              <a:buChar char="o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4" marL="2279520" indent="-252360">
              <a:spcBef>
                <a:spcPts val="675"/>
              </a:spcBef>
              <a:buClr>
                <a:srgbClr val="7f7f7f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5" marL="2279520" indent="-252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6" marL="2279520" indent="-252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 type="dt" idx="49"/>
          </p:nvPr>
        </p:nvSpPr>
        <p:spPr>
          <a:xfrm>
            <a:off x="7064280" y="7033680"/>
            <a:ext cx="2314800" cy="40500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F05C-04C3-49CA-9169-526A8AA4128D}" type="datetime">
              <a:rPr b="0" lang="ru-RU" sz="1300" spc="-1" strike="noStrike">
                <a:solidFill>
                  <a:srgbClr val="595959"/>
                </a:solidFill>
                <a:latin typeface="Century Gothic"/>
              </a:rPr>
              <a:t>31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 type="ftr" idx="50"/>
          </p:nvPr>
        </p:nvSpPr>
        <p:spPr>
          <a:xfrm>
            <a:off x="731880" y="7033680"/>
            <a:ext cx="3160800" cy="4050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 type="sldNum" idx="51"/>
          </p:nvPr>
        </p:nvSpPr>
        <p:spPr>
          <a:xfrm>
            <a:off x="9483480" y="7033680"/>
            <a:ext cx="623880" cy="405000"/>
          </a:xfrm>
          <a:prstGeom prst="rect">
            <a:avLst/>
          </a:prstGeom>
          <a:noFill/>
          <a:ln w="0">
            <a:noFill/>
          </a:ln>
        </p:spPr>
        <p:txBody>
          <a:bodyPr lIns="30240" rIns="5076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FED5E-D037-46DB-8451-E68AAB811B28}" type="slidenum">
              <a:rPr b="0" lang="ru-RU" sz="13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Oval 6"/>
          <p:cNvSpPr/>
          <p:nvPr/>
        </p:nvSpPr>
        <p:spPr>
          <a:xfrm>
            <a:off x="9388440" y="7192800"/>
            <a:ext cx="93600" cy="939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Oval 7"/>
          <p:cNvSpPr/>
          <p:nvPr/>
        </p:nvSpPr>
        <p:spPr>
          <a:xfrm>
            <a:off x="633240" y="7192800"/>
            <a:ext cx="92160" cy="939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60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07960" y="1771200"/>
            <a:ext cx="913464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675"/>
              </a:spcBef>
              <a:buClr>
                <a:srgbClr val="7f7f7f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1" marL="822240" indent="-315720">
              <a:spcBef>
                <a:spcPts val="675"/>
              </a:spcBef>
              <a:buClr>
                <a:srgbClr val="7f7f7f"/>
              </a:buClr>
              <a:buFont typeface="Courier New"/>
              <a:buChar char="o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2" marL="1266840" indent="-252360">
              <a:spcBef>
                <a:spcPts val="675"/>
              </a:spcBef>
              <a:buClr>
                <a:srgbClr val="7f7f7f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3" marL="1773360" indent="-252360">
              <a:spcBef>
                <a:spcPts val="675"/>
              </a:spcBef>
              <a:buClr>
                <a:srgbClr val="7f7f7f"/>
              </a:buClr>
              <a:buFont typeface="Courier New"/>
              <a:buChar char="o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4" marL="2279520" indent="-252360">
              <a:spcBef>
                <a:spcPts val="675"/>
              </a:spcBef>
              <a:buClr>
                <a:srgbClr val="7f7f7f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5" marL="2279520" indent="-252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6" marL="2279520" indent="-252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2"/>
          </p:nvPr>
        </p:nvSpPr>
        <p:spPr>
          <a:xfrm>
            <a:off x="7064280" y="7033680"/>
            <a:ext cx="2314800" cy="40500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1ACE5-19A2-47B0-9E23-E7544E8C5FF3}" type="datetime">
              <a:rPr b="0" lang="ru-RU" sz="1300" spc="-1" strike="noStrike">
                <a:solidFill>
                  <a:srgbClr val="595959"/>
                </a:solidFill>
                <a:latin typeface="Century Gothic"/>
              </a:rPr>
              <a:t>31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3"/>
          </p:nvPr>
        </p:nvSpPr>
        <p:spPr>
          <a:xfrm>
            <a:off x="731880" y="7033680"/>
            <a:ext cx="3160800" cy="4050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54"/>
          </p:nvPr>
        </p:nvSpPr>
        <p:spPr>
          <a:xfrm>
            <a:off x="9483480" y="7033680"/>
            <a:ext cx="623880" cy="405000"/>
          </a:xfrm>
          <a:prstGeom prst="rect">
            <a:avLst/>
          </a:prstGeom>
          <a:noFill/>
          <a:ln w="0">
            <a:noFill/>
          </a:ln>
        </p:spPr>
        <p:txBody>
          <a:bodyPr lIns="30240" rIns="5076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B22CB-77A8-48B8-97DD-56CFADED7B70}" type="slidenum">
              <a:rPr b="0" lang="ru-RU" sz="13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7960" y="302760"/>
            <a:ext cx="9134640" cy="12654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07960" y="1771200"/>
            <a:ext cx="9134640" cy="50086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2080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6540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71560" indent="-2505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7808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7808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7808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07600" y="7033680"/>
            <a:ext cx="2368440" cy="4050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3468600" y="7033680"/>
            <a:ext cx="3213360" cy="4050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7273800" y="7033680"/>
            <a:ext cx="2368800" cy="4050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B8094-FD0E-4D24-9E92-5D3C4208AAC4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Oval 6"/>
          <p:cNvSpPr/>
          <p:nvPr/>
        </p:nvSpPr>
        <p:spPr>
          <a:xfrm>
            <a:off x="9388440" y="7192800"/>
            <a:ext cx="93600" cy="939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Oval 7"/>
          <p:cNvSpPr/>
          <p:nvPr/>
        </p:nvSpPr>
        <p:spPr>
          <a:xfrm>
            <a:off x="633240" y="7192800"/>
            <a:ext cx="92160" cy="939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60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7960" y="1771200"/>
            <a:ext cx="913464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675"/>
              </a:spcBef>
              <a:buClr>
                <a:srgbClr val="7f7f7f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1" marL="822240" indent="-315720">
              <a:spcBef>
                <a:spcPts val="675"/>
              </a:spcBef>
              <a:buClr>
                <a:srgbClr val="7f7f7f"/>
              </a:buClr>
              <a:buFont typeface="Courier New"/>
              <a:buChar char="o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2" marL="1266840" indent="-252360">
              <a:spcBef>
                <a:spcPts val="675"/>
              </a:spcBef>
              <a:buClr>
                <a:srgbClr val="7f7f7f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3" marL="1773360" indent="-252360">
              <a:spcBef>
                <a:spcPts val="675"/>
              </a:spcBef>
              <a:buClr>
                <a:srgbClr val="7f7f7f"/>
              </a:buClr>
              <a:buFont typeface="Courier New"/>
              <a:buChar char="o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4" marL="2279520" indent="-252360">
              <a:spcBef>
                <a:spcPts val="675"/>
              </a:spcBef>
              <a:buClr>
                <a:srgbClr val="7f7f7f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5" marL="2279520" indent="-252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6" marL="2279520" indent="-252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5"/>
          </p:nvPr>
        </p:nvSpPr>
        <p:spPr>
          <a:xfrm>
            <a:off x="7064280" y="7033680"/>
            <a:ext cx="2314800" cy="40500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34982-EFF1-49ED-A4B5-10183F9A4C59}" type="datetime">
              <a:rPr b="0" lang="ru-RU" sz="1300" spc="-1" strike="noStrike">
                <a:solidFill>
                  <a:srgbClr val="595959"/>
                </a:solidFill>
                <a:latin typeface="Century Gothic"/>
              </a:rPr>
              <a:t>31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6"/>
          </p:nvPr>
        </p:nvSpPr>
        <p:spPr>
          <a:xfrm>
            <a:off x="731880" y="7033680"/>
            <a:ext cx="3160800" cy="4050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7"/>
          </p:nvPr>
        </p:nvSpPr>
        <p:spPr>
          <a:xfrm>
            <a:off x="9483480" y="7033680"/>
            <a:ext cx="623880" cy="405000"/>
          </a:xfrm>
          <a:prstGeom prst="rect">
            <a:avLst/>
          </a:prstGeom>
          <a:noFill/>
          <a:ln w="0">
            <a:noFill/>
          </a:ln>
        </p:spPr>
        <p:txBody>
          <a:bodyPr lIns="30240" rIns="5076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C4788-1732-415D-87D3-C677A1953C4D}" type="slidenum">
              <a:rPr b="0" lang="ru-RU" sz="13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Oval 6"/>
          <p:cNvSpPr/>
          <p:nvPr/>
        </p:nvSpPr>
        <p:spPr>
          <a:xfrm>
            <a:off x="9388440" y="7192800"/>
            <a:ext cx="93600" cy="939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Oval 7"/>
          <p:cNvSpPr/>
          <p:nvPr/>
        </p:nvSpPr>
        <p:spPr>
          <a:xfrm>
            <a:off x="633240" y="7192800"/>
            <a:ext cx="92160" cy="939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60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507960" y="1771200"/>
            <a:ext cx="913464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675"/>
              </a:spcBef>
              <a:buClr>
                <a:srgbClr val="7f7f7f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1" marL="822240" indent="-315720">
              <a:spcBef>
                <a:spcPts val="675"/>
              </a:spcBef>
              <a:buClr>
                <a:srgbClr val="7f7f7f"/>
              </a:buClr>
              <a:buFont typeface="Courier New"/>
              <a:buChar char="o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2" marL="1266840" indent="-252360">
              <a:spcBef>
                <a:spcPts val="675"/>
              </a:spcBef>
              <a:buClr>
                <a:srgbClr val="7f7f7f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3" marL="1773360" indent="-252360">
              <a:spcBef>
                <a:spcPts val="675"/>
              </a:spcBef>
              <a:buClr>
                <a:srgbClr val="7f7f7f"/>
              </a:buClr>
              <a:buFont typeface="Courier New"/>
              <a:buChar char="o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4" marL="2279520" indent="-252360">
              <a:spcBef>
                <a:spcPts val="675"/>
              </a:spcBef>
              <a:buClr>
                <a:srgbClr val="7f7f7f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5" marL="2279520" indent="-252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6" marL="2279520" indent="-252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 type="dt" idx="58"/>
          </p:nvPr>
        </p:nvSpPr>
        <p:spPr>
          <a:xfrm>
            <a:off x="7064280" y="7033680"/>
            <a:ext cx="2314800" cy="40500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61E9-BC35-4543-B743-0998650B0AC0}" type="datetime">
              <a:rPr b="0" lang="ru-RU" sz="1300" spc="-1" strike="noStrike">
                <a:solidFill>
                  <a:srgbClr val="595959"/>
                </a:solidFill>
                <a:latin typeface="Century Gothic"/>
              </a:rPr>
              <a:t>31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 type="ftr" idx="59"/>
          </p:nvPr>
        </p:nvSpPr>
        <p:spPr>
          <a:xfrm>
            <a:off x="731880" y="7033680"/>
            <a:ext cx="3160800" cy="4050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 type="sldNum" idx="60"/>
          </p:nvPr>
        </p:nvSpPr>
        <p:spPr>
          <a:xfrm>
            <a:off x="9483480" y="7033680"/>
            <a:ext cx="623880" cy="405000"/>
          </a:xfrm>
          <a:prstGeom prst="rect">
            <a:avLst/>
          </a:prstGeom>
          <a:noFill/>
          <a:ln w="0">
            <a:noFill/>
          </a:ln>
        </p:spPr>
        <p:txBody>
          <a:bodyPr lIns="30240" rIns="5076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8ECAB-4FA9-4C98-8BC6-0D0C6B105CDF}" type="slidenum">
              <a:rPr b="0" lang="ru-RU" sz="13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Oval 6"/>
          <p:cNvSpPr/>
          <p:nvPr/>
        </p:nvSpPr>
        <p:spPr>
          <a:xfrm>
            <a:off x="9388440" y="7192800"/>
            <a:ext cx="93600" cy="939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Oval 7"/>
          <p:cNvSpPr/>
          <p:nvPr/>
        </p:nvSpPr>
        <p:spPr>
          <a:xfrm>
            <a:off x="633240" y="7192800"/>
            <a:ext cx="92160" cy="939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60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507960" y="1771200"/>
            <a:ext cx="913464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675"/>
              </a:spcBef>
              <a:buClr>
                <a:srgbClr val="7f7f7f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1" marL="822240" indent="-315720">
              <a:spcBef>
                <a:spcPts val="675"/>
              </a:spcBef>
              <a:buClr>
                <a:srgbClr val="7f7f7f"/>
              </a:buClr>
              <a:buFont typeface="Courier New"/>
              <a:buChar char="o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2" marL="1266840" indent="-252360">
              <a:spcBef>
                <a:spcPts val="675"/>
              </a:spcBef>
              <a:buClr>
                <a:srgbClr val="7f7f7f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3" marL="1773360" indent="-252360">
              <a:spcBef>
                <a:spcPts val="675"/>
              </a:spcBef>
              <a:buClr>
                <a:srgbClr val="7f7f7f"/>
              </a:buClr>
              <a:buFont typeface="Courier New"/>
              <a:buChar char="o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4" marL="2279520" indent="-252360">
              <a:spcBef>
                <a:spcPts val="675"/>
              </a:spcBef>
              <a:buClr>
                <a:srgbClr val="7f7f7f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5" marL="2279520" indent="-252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6" marL="2279520" indent="-252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 type="dt" idx="61"/>
          </p:nvPr>
        </p:nvSpPr>
        <p:spPr>
          <a:xfrm>
            <a:off x="7064280" y="7033680"/>
            <a:ext cx="2314800" cy="40500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24E6D-F3FF-4350-8A39-DD02AB359369}" type="datetime">
              <a:rPr b="0" lang="ru-RU" sz="1300" spc="-1" strike="noStrike">
                <a:solidFill>
                  <a:srgbClr val="595959"/>
                </a:solidFill>
                <a:latin typeface="Century Gothic"/>
              </a:rPr>
              <a:t>31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 type="ftr" idx="62"/>
          </p:nvPr>
        </p:nvSpPr>
        <p:spPr>
          <a:xfrm>
            <a:off x="731880" y="7033680"/>
            <a:ext cx="3160800" cy="4050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 type="sldNum" idx="63"/>
          </p:nvPr>
        </p:nvSpPr>
        <p:spPr>
          <a:xfrm>
            <a:off x="9483480" y="7033680"/>
            <a:ext cx="623880" cy="405000"/>
          </a:xfrm>
          <a:prstGeom prst="rect">
            <a:avLst/>
          </a:prstGeom>
          <a:noFill/>
          <a:ln w="0">
            <a:noFill/>
          </a:ln>
        </p:spPr>
        <p:txBody>
          <a:bodyPr lIns="30240" rIns="5076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34BC6-0671-4863-8857-96AB6F869D94}" type="slidenum">
              <a:rPr b="0" lang="ru-RU" sz="13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Oval 6"/>
          <p:cNvSpPr/>
          <p:nvPr/>
        </p:nvSpPr>
        <p:spPr>
          <a:xfrm>
            <a:off x="9388440" y="7192800"/>
            <a:ext cx="93600" cy="939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Oval 7"/>
          <p:cNvSpPr/>
          <p:nvPr/>
        </p:nvSpPr>
        <p:spPr>
          <a:xfrm>
            <a:off x="633240" y="7192800"/>
            <a:ext cx="92160" cy="939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60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507960" y="1771200"/>
            <a:ext cx="913464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675"/>
              </a:spcBef>
              <a:buClr>
                <a:srgbClr val="7f7f7f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1" marL="822240" indent="-315720">
              <a:spcBef>
                <a:spcPts val="675"/>
              </a:spcBef>
              <a:buClr>
                <a:srgbClr val="7f7f7f"/>
              </a:buClr>
              <a:buFont typeface="Courier New"/>
              <a:buChar char="o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2" marL="1266840" indent="-252360">
              <a:spcBef>
                <a:spcPts val="675"/>
              </a:spcBef>
              <a:buClr>
                <a:srgbClr val="7f7f7f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3" marL="1773360" indent="-252360">
              <a:spcBef>
                <a:spcPts val="675"/>
              </a:spcBef>
              <a:buClr>
                <a:srgbClr val="7f7f7f"/>
              </a:buClr>
              <a:buFont typeface="Courier New"/>
              <a:buChar char="o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4" marL="2279520" indent="-252360">
              <a:spcBef>
                <a:spcPts val="675"/>
              </a:spcBef>
              <a:buClr>
                <a:srgbClr val="7f7f7f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5" marL="2279520" indent="-252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6" marL="2279520" indent="-252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 type="dt" idx="64"/>
          </p:nvPr>
        </p:nvSpPr>
        <p:spPr>
          <a:xfrm>
            <a:off x="7064280" y="7033680"/>
            <a:ext cx="2314800" cy="40500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E4768-7310-4BC4-A644-272FCFA9E1CA}" type="datetime">
              <a:rPr b="0" lang="ru-RU" sz="1300" spc="-1" strike="noStrike">
                <a:solidFill>
                  <a:srgbClr val="595959"/>
                </a:solidFill>
                <a:latin typeface="Century Gothic"/>
              </a:rPr>
              <a:t>31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 type="ftr" idx="65"/>
          </p:nvPr>
        </p:nvSpPr>
        <p:spPr>
          <a:xfrm>
            <a:off x="731880" y="7033680"/>
            <a:ext cx="3160800" cy="4050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 type="sldNum" idx="66"/>
          </p:nvPr>
        </p:nvSpPr>
        <p:spPr>
          <a:xfrm>
            <a:off x="9483480" y="7033680"/>
            <a:ext cx="623880" cy="405000"/>
          </a:xfrm>
          <a:prstGeom prst="rect">
            <a:avLst/>
          </a:prstGeom>
          <a:noFill/>
          <a:ln w="0">
            <a:noFill/>
          </a:ln>
        </p:spPr>
        <p:txBody>
          <a:bodyPr lIns="30240" rIns="5076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3E6C5-C6AE-400E-B7F7-1BCD1D01599F}" type="slidenum">
              <a:rPr b="0" lang="ru-RU" sz="13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Oval 6"/>
          <p:cNvSpPr/>
          <p:nvPr/>
        </p:nvSpPr>
        <p:spPr>
          <a:xfrm>
            <a:off x="9388440" y="7192800"/>
            <a:ext cx="93600" cy="939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Oval 7"/>
          <p:cNvSpPr/>
          <p:nvPr/>
        </p:nvSpPr>
        <p:spPr>
          <a:xfrm>
            <a:off x="633240" y="7192800"/>
            <a:ext cx="92160" cy="939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60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507960" y="1771200"/>
            <a:ext cx="913464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675"/>
              </a:spcBef>
              <a:buClr>
                <a:srgbClr val="7f7f7f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1" marL="822240" indent="-315720">
              <a:spcBef>
                <a:spcPts val="675"/>
              </a:spcBef>
              <a:buClr>
                <a:srgbClr val="7f7f7f"/>
              </a:buClr>
              <a:buFont typeface="Courier New"/>
              <a:buChar char="o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2" marL="1266840" indent="-252360">
              <a:spcBef>
                <a:spcPts val="675"/>
              </a:spcBef>
              <a:buClr>
                <a:srgbClr val="7f7f7f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3" marL="1773360" indent="-252360">
              <a:spcBef>
                <a:spcPts val="675"/>
              </a:spcBef>
              <a:buClr>
                <a:srgbClr val="7f7f7f"/>
              </a:buClr>
              <a:buFont typeface="Courier New"/>
              <a:buChar char="o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4" marL="2279520" indent="-252360">
              <a:spcBef>
                <a:spcPts val="675"/>
              </a:spcBef>
              <a:buClr>
                <a:srgbClr val="7f7f7f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5" marL="2279520" indent="-252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6" marL="2279520" indent="-252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 type="dt" idx="67"/>
          </p:nvPr>
        </p:nvSpPr>
        <p:spPr>
          <a:xfrm>
            <a:off x="7064280" y="7033680"/>
            <a:ext cx="2314800" cy="40500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956BA-0F6F-429A-9783-CEF7EB2F0DE9}" type="datetime">
              <a:rPr b="0" lang="ru-RU" sz="1300" spc="-1" strike="noStrike">
                <a:solidFill>
                  <a:srgbClr val="595959"/>
                </a:solidFill>
                <a:latin typeface="Century Gothic"/>
              </a:rPr>
              <a:t>31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 type="ftr" idx="68"/>
          </p:nvPr>
        </p:nvSpPr>
        <p:spPr>
          <a:xfrm>
            <a:off x="731880" y="7033680"/>
            <a:ext cx="3160800" cy="4050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 type="sldNum" idx="69"/>
          </p:nvPr>
        </p:nvSpPr>
        <p:spPr>
          <a:xfrm>
            <a:off x="9483480" y="7033680"/>
            <a:ext cx="623880" cy="405000"/>
          </a:xfrm>
          <a:prstGeom prst="rect">
            <a:avLst/>
          </a:prstGeom>
          <a:noFill/>
          <a:ln w="0">
            <a:noFill/>
          </a:ln>
        </p:spPr>
        <p:txBody>
          <a:bodyPr lIns="30240" rIns="5076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3ED6E-6B1B-4F9F-8E8C-1186F9FB6685}" type="slidenum">
              <a:rPr b="0" lang="ru-RU" sz="13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Oval 6"/>
          <p:cNvSpPr/>
          <p:nvPr/>
        </p:nvSpPr>
        <p:spPr>
          <a:xfrm>
            <a:off x="9388440" y="7192800"/>
            <a:ext cx="93600" cy="939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Oval 7"/>
          <p:cNvSpPr/>
          <p:nvPr/>
        </p:nvSpPr>
        <p:spPr>
          <a:xfrm>
            <a:off x="633240" y="7192800"/>
            <a:ext cx="92160" cy="939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60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7960" y="1771200"/>
            <a:ext cx="913464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675"/>
              </a:spcBef>
              <a:buClr>
                <a:srgbClr val="7f7f7f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1" marL="822240" indent="-315720">
              <a:spcBef>
                <a:spcPts val="675"/>
              </a:spcBef>
              <a:buClr>
                <a:srgbClr val="7f7f7f"/>
              </a:buClr>
              <a:buFont typeface="Courier New"/>
              <a:buChar char="o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2" marL="1266840" indent="-252360">
              <a:spcBef>
                <a:spcPts val="675"/>
              </a:spcBef>
              <a:buClr>
                <a:srgbClr val="7f7f7f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3" marL="1773360" indent="-252360">
              <a:spcBef>
                <a:spcPts val="675"/>
              </a:spcBef>
              <a:buClr>
                <a:srgbClr val="7f7f7f"/>
              </a:buClr>
              <a:buFont typeface="Courier New"/>
              <a:buChar char="o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4" marL="2279520" indent="-252360">
              <a:spcBef>
                <a:spcPts val="675"/>
              </a:spcBef>
              <a:buClr>
                <a:srgbClr val="7f7f7f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5" marL="2279520" indent="-252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6" marL="2279520" indent="-252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7064280" y="7033680"/>
            <a:ext cx="2314800" cy="40500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3DF24-5A1C-4786-8CAF-597270DF0DEF}" type="datetime">
              <a:rPr b="0" lang="ru-RU" sz="1300" spc="-1" strike="noStrike">
                <a:solidFill>
                  <a:srgbClr val="595959"/>
                </a:solidFill>
                <a:latin typeface="Century Gothic"/>
              </a:rPr>
              <a:t>31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731880" y="7033680"/>
            <a:ext cx="3160800" cy="4050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9483480" y="7033680"/>
            <a:ext cx="623880" cy="405000"/>
          </a:xfrm>
          <a:prstGeom prst="rect">
            <a:avLst/>
          </a:prstGeom>
          <a:noFill/>
          <a:ln w="0">
            <a:noFill/>
          </a:ln>
        </p:spPr>
        <p:txBody>
          <a:bodyPr lIns="30240" rIns="5076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34809-89D4-4EDE-B30E-31670630DEE9}" type="slidenum">
              <a:rPr b="0" lang="ru-RU" sz="13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Oval 6"/>
          <p:cNvSpPr/>
          <p:nvPr/>
        </p:nvSpPr>
        <p:spPr>
          <a:xfrm>
            <a:off x="9388440" y="7192800"/>
            <a:ext cx="93600" cy="939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Oval 7"/>
          <p:cNvSpPr/>
          <p:nvPr/>
        </p:nvSpPr>
        <p:spPr>
          <a:xfrm>
            <a:off x="633240" y="7192800"/>
            <a:ext cx="92160" cy="939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60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507960" y="1771200"/>
            <a:ext cx="913464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675"/>
              </a:spcBef>
              <a:buClr>
                <a:srgbClr val="7f7f7f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1" marL="822240" indent="-315720">
              <a:spcBef>
                <a:spcPts val="675"/>
              </a:spcBef>
              <a:buClr>
                <a:srgbClr val="7f7f7f"/>
              </a:buClr>
              <a:buFont typeface="Courier New"/>
              <a:buChar char="o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2" marL="1266840" indent="-252360">
              <a:spcBef>
                <a:spcPts val="675"/>
              </a:spcBef>
              <a:buClr>
                <a:srgbClr val="7f7f7f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3" marL="1773360" indent="-252360">
              <a:spcBef>
                <a:spcPts val="675"/>
              </a:spcBef>
              <a:buClr>
                <a:srgbClr val="7f7f7f"/>
              </a:buClr>
              <a:buFont typeface="Courier New"/>
              <a:buChar char="o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4" marL="2279520" indent="-252360">
              <a:spcBef>
                <a:spcPts val="675"/>
              </a:spcBef>
              <a:buClr>
                <a:srgbClr val="7f7f7f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5" marL="2279520" indent="-252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6" marL="2279520" indent="-252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 type="dt" idx="73"/>
          </p:nvPr>
        </p:nvSpPr>
        <p:spPr>
          <a:xfrm>
            <a:off x="7064280" y="7033680"/>
            <a:ext cx="2314800" cy="40500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EF0A6-FFF1-453E-B441-E77FC59221EC}" type="datetime">
              <a:rPr b="0" lang="ru-RU" sz="1300" spc="-1" strike="noStrike">
                <a:solidFill>
                  <a:srgbClr val="595959"/>
                </a:solidFill>
                <a:latin typeface="Century Gothic"/>
              </a:rPr>
              <a:t>31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 type="ftr" idx="74"/>
          </p:nvPr>
        </p:nvSpPr>
        <p:spPr>
          <a:xfrm>
            <a:off x="731880" y="7033680"/>
            <a:ext cx="3160800" cy="4050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5"/>
          <p:cNvSpPr>
            <a:spLocks noGrp="1"/>
          </p:cNvSpPr>
          <p:nvPr>
            <p:ph type="sldNum" idx="75"/>
          </p:nvPr>
        </p:nvSpPr>
        <p:spPr>
          <a:xfrm>
            <a:off x="9483480" y="7033680"/>
            <a:ext cx="623880" cy="405000"/>
          </a:xfrm>
          <a:prstGeom prst="rect">
            <a:avLst/>
          </a:prstGeom>
          <a:noFill/>
          <a:ln w="0">
            <a:noFill/>
          </a:ln>
        </p:spPr>
        <p:txBody>
          <a:bodyPr lIns="30240" rIns="5076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8EEC6-26F3-4DF7-858F-A824D9DDCA20}" type="slidenum">
              <a:rPr b="0" lang="ru-RU" sz="13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60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507960" y="1771200"/>
            <a:ext cx="913464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675"/>
              </a:spcBef>
              <a:buClr>
                <a:srgbClr val="7f7f7f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1" marL="822240" indent="-315720">
              <a:spcBef>
                <a:spcPts val="675"/>
              </a:spcBef>
              <a:buClr>
                <a:srgbClr val="7f7f7f"/>
              </a:buClr>
              <a:buFont typeface="Courier New"/>
              <a:buChar char="o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2" marL="1266840" indent="-252360">
              <a:spcBef>
                <a:spcPts val="675"/>
              </a:spcBef>
              <a:buClr>
                <a:srgbClr val="7f7f7f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3" marL="1773360" indent="-252360">
              <a:spcBef>
                <a:spcPts val="675"/>
              </a:spcBef>
              <a:buClr>
                <a:srgbClr val="7f7f7f"/>
              </a:buClr>
              <a:buFont typeface="Courier New"/>
              <a:buChar char="o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4" marL="2279520" indent="-252360">
              <a:spcBef>
                <a:spcPts val="675"/>
              </a:spcBef>
              <a:buClr>
                <a:srgbClr val="7f7f7f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5" marL="2279520" indent="-252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6" marL="2279520" indent="-252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7064280" y="7033680"/>
            <a:ext cx="2314800" cy="40500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3CE9-9174-486E-A175-F67B3D345DC3}" type="datetime">
              <a:rPr b="0" lang="en-US" sz="1300" spc="-1" strike="noStrike">
                <a:solidFill>
                  <a:srgbClr val="595959"/>
                </a:solidFill>
                <a:latin typeface="Century Gothic"/>
              </a:rPr>
              <a:t>07/31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731880" y="7033680"/>
            <a:ext cx="3160800" cy="4050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95959"/>
                </a:solidFill>
                <a:latin typeface="Century Gothic"/>
              </a:rPr>
              <a:t>Footer Tex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9483480" y="7033680"/>
            <a:ext cx="623880" cy="405000"/>
          </a:xfrm>
          <a:prstGeom prst="rect">
            <a:avLst/>
          </a:prstGeom>
          <a:noFill/>
          <a:ln w="0">
            <a:noFill/>
          </a:ln>
        </p:spPr>
        <p:txBody>
          <a:bodyPr lIns="30240" rIns="5076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C2272-2849-4BB0-B69F-70CBE4CCC80C}" type="slidenum">
              <a:rPr b="0" lang="en-US" sz="13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6"/>
          <p:cNvSpPr/>
          <p:nvPr/>
        </p:nvSpPr>
        <p:spPr>
          <a:xfrm>
            <a:off x="9388440" y="7192800"/>
            <a:ext cx="93600" cy="939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val 7"/>
          <p:cNvSpPr/>
          <p:nvPr/>
        </p:nvSpPr>
        <p:spPr>
          <a:xfrm>
            <a:off x="633240" y="7192800"/>
            <a:ext cx="92160" cy="939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60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507960" y="1771200"/>
            <a:ext cx="913464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675"/>
              </a:spcBef>
              <a:buClr>
                <a:srgbClr val="7f7f7f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1" marL="822240" indent="-315720">
              <a:spcBef>
                <a:spcPts val="675"/>
              </a:spcBef>
              <a:buClr>
                <a:srgbClr val="7f7f7f"/>
              </a:buClr>
              <a:buFont typeface="Courier New"/>
              <a:buChar char="o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2" marL="1266840" indent="-252360">
              <a:spcBef>
                <a:spcPts val="675"/>
              </a:spcBef>
              <a:buClr>
                <a:srgbClr val="7f7f7f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3" marL="1773360" indent="-252360">
              <a:spcBef>
                <a:spcPts val="675"/>
              </a:spcBef>
              <a:buClr>
                <a:srgbClr val="7f7f7f"/>
              </a:buClr>
              <a:buFont typeface="Courier New"/>
              <a:buChar char="o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4" marL="2279520" indent="-252360">
              <a:spcBef>
                <a:spcPts val="675"/>
              </a:spcBef>
              <a:buClr>
                <a:srgbClr val="7f7f7f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5" marL="2279520" indent="-252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6" marL="2279520" indent="-252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7064280" y="7033680"/>
            <a:ext cx="2314800" cy="40500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91B35-E67A-43FD-83E4-38A8E4FD36B0}" type="datetime">
              <a:rPr b="0" lang="en-US" sz="1300" spc="-1" strike="noStrike">
                <a:solidFill>
                  <a:srgbClr val="595959"/>
                </a:solidFill>
                <a:latin typeface="Century Gothic"/>
              </a:rPr>
              <a:t>07/31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>
            <a:off x="731880" y="7033680"/>
            <a:ext cx="3160800" cy="4050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95959"/>
                </a:solidFill>
                <a:latin typeface="Century Gothic"/>
              </a:rPr>
              <a:t>Footer Tex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>
            <a:off x="9483480" y="7033680"/>
            <a:ext cx="623880" cy="405000"/>
          </a:xfrm>
          <a:prstGeom prst="rect">
            <a:avLst/>
          </a:prstGeom>
          <a:noFill/>
          <a:ln w="0">
            <a:noFill/>
          </a:ln>
        </p:spPr>
        <p:txBody>
          <a:bodyPr lIns="30240" rIns="5076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10FD1-0A28-4B65-BAF6-D3C0E6936CF6}" type="slidenum">
              <a:rPr b="0" lang="en-US" sz="13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Oval 6"/>
          <p:cNvSpPr/>
          <p:nvPr/>
        </p:nvSpPr>
        <p:spPr>
          <a:xfrm>
            <a:off x="9388440" y="7192800"/>
            <a:ext cx="93600" cy="939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Oval 7"/>
          <p:cNvSpPr/>
          <p:nvPr/>
        </p:nvSpPr>
        <p:spPr>
          <a:xfrm>
            <a:off x="633240" y="7192800"/>
            <a:ext cx="92160" cy="939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Oval 6"/>
          <p:cNvSpPr/>
          <p:nvPr/>
        </p:nvSpPr>
        <p:spPr>
          <a:xfrm>
            <a:off x="9388440" y="7192800"/>
            <a:ext cx="93600" cy="939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Oval 7"/>
          <p:cNvSpPr/>
          <p:nvPr/>
        </p:nvSpPr>
        <p:spPr>
          <a:xfrm>
            <a:off x="633240" y="7192800"/>
            <a:ext cx="92160" cy="939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60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507960" y="1771200"/>
            <a:ext cx="913464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675"/>
              </a:spcBef>
              <a:buClr>
                <a:srgbClr val="7f7f7f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1" marL="822240" indent="-315720">
              <a:spcBef>
                <a:spcPts val="675"/>
              </a:spcBef>
              <a:buClr>
                <a:srgbClr val="7f7f7f"/>
              </a:buClr>
              <a:buFont typeface="Courier New"/>
              <a:buChar char="o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2" marL="1266840" indent="-252360">
              <a:spcBef>
                <a:spcPts val="675"/>
              </a:spcBef>
              <a:buClr>
                <a:srgbClr val="7f7f7f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3" marL="1773360" indent="-252360">
              <a:spcBef>
                <a:spcPts val="675"/>
              </a:spcBef>
              <a:buClr>
                <a:srgbClr val="7f7f7f"/>
              </a:buClr>
              <a:buFont typeface="Courier New"/>
              <a:buChar char="o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4" marL="2279520" indent="-252360">
              <a:spcBef>
                <a:spcPts val="675"/>
              </a:spcBef>
              <a:buClr>
                <a:srgbClr val="7f7f7f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5" marL="2279520" indent="-252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6" marL="2279520" indent="-252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064280" y="7033680"/>
            <a:ext cx="2314800" cy="40500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629E7-F164-49E7-BA77-32CADF33E785}" type="datetime">
              <a:rPr b="0" lang="ru-RU" sz="1300" spc="-1" strike="noStrike">
                <a:solidFill>
                  <a:srgbClr val="595959"/>
                </a:solidFill>
                <a:latin typeface="Century Gothic"/>
              </a:rPr>
              <a:t>31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11"/>
          </p:nvPr>
        </p:nvSpPr>
        <p:spPr>
          <a:xfrm>
            <a:off x="9483480" y="7033680"/>
            <a:ext cx="623880" cy="405000"/>
          </a:xfrm>
          <a:prstGeom prst="rect">
            <a:avLst/>
          </a:prstGeom>
          <a:noFill/>
          <a:ln w="0">
            <a:noFill/>
          </a:ln>
        </p:spPr>
        <p:txBody>
          <a:bodyPr lIns="30240" rIns="5076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49E31-032D-44A5-9439-D5C6FE2BCCA0}" type="slidenum">
              <a:rPr b="0" lang="ru-RU" sz="13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2"/>
          </p:nvPr>
        </p:nvSpPr>
        <p:spPr>
          <a:xfrm>
            <a:off x="731880" y="7033680"/>
            <a:ext cx="3160800" cy="4050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Oval 6"/>
          <p:cNvSpPr/>
          <p:nvPr/>
        </p:nvSpPr>
        <p:spPr>
          <a:xfrm>
            <a:off x="9388440" y="7192800"/>
            <a:ext cx="93600" cy="939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Oval 7"/>
          <p:cNvSpPr/>
          <p:nvPr/>
        </p:nvSpPr>
        <p:spPr>
          <a:xfrm>
            <a:off x="633240" y="7192800"/>
            <a:ext cx="92160" cy="939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60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507960" y="1771200"/>
            <a:ext cx="913464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675"/>
              </a:spcBef>
              <a:buClr>
                <a:srgbClr val="7f7f7f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1" marL="822240" indent="-315720">
              <a:spcBef>
                <a:spcPts val="675"/>
              </a:spcBef>
              <a:buClr>
                <a:srgbClr val="7f7f7f"/>
              </a:buClr>
              <a:buFont typeface="Courier New"/>
              <a:buChar char="o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2" marL="1266840" indent="-252360">
              <a:spcBef>
                <a:spcPts val="675"/>
              </a:spcBef>
              <a:buClr>
                <a:srgbClr val="7f7f7f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3" marL="1773360" indent="-252360">
              <a:spcBef>
                <a:spcPts val="675"/>
              </a:spcBef>
              <a:buClr>
                <a:srgbClr val="7f7f7f"/>
              </a:buClr>
              <a:buFont typeface="Courier New"/>
              <a:buChar char="o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4" marL="2279520" indent="-252360">
              <a:spcBef>
                <a:spcPts val="675"/>
              </a:spcBef>
              <a:buClr>
                <a:srgbClr val="7f7f7f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5" marL="2279520" indent="-252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6" marL="2279520" indent="-252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7064280" y="7033680"/>
            <a:ext cx="2314800" cy="40500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1E5E0-1115-4108-B793-ED40CA3E428C}" type="datetime">
              <a:rPr b="0" lang="ru-RU" sz="1300" spc="-1" strike="noStrike">
                <a:solidFill>
                  <a:srgbClr val="595959"/>
                </a:solidFill>
                <a:latin typeface="Century Gothic"/>
              </a:rPr>
              <a:t>31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731880" y="7033680"/>
            <a:ext cx="3160800" cy="4050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9483480" y="7033680"/>
            <a:ext cx="623880" cy="405000"/>
          </a:xfrm>
          <a:prstGeom prst="rect">
            <a:avLst/>
          </a:prstGeom>
          <a:noFill/>
          <a:ln w="0">
            <a:noFill/>
          </a:ln>
        </p:spPr>
        <p:txBody>
          <a:bodyPr lIns="30240" rIns="5076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4F2EB-07DA-4FC5-B2D2-48AEB0859D34}" type="slidenum">
              <a:rPr b="0" lang="ru-RU" sz="13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Oval 6"/>
          <p:cNvSpPr/>
          <p:nvPr/>
        </p:nvSpPr>
        <p:spPr>
          <a:xfrm>
            <a:off x="9388440" y="7192800"/>
            <a:ext cx="93600" cy="939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Oval 7"/>
          <p:cNvSpPr/>
          <p:nvPr/>
        </p:nvSpPr>
        <p:spPr>
          <a:xfrm>
            <a:off x="633240" y="7192800"/>
            <a:ext cx="92160" cy="939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Oval 6"/>
          <p:cNvSpPr/>
          <p:nvPr/>
        </p:nvSpPr>
        <p:spPr>
          <a:xfrm>
            <a:off x="4991040" y="4343400"/>
            <a:ext cx="93600" cy="921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4760" bIns="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Oval 7"/>
          <p:cNvSpPr/>
          <p:nvPr/>
        </p:nvSpPr>
        <p:spPr>
          <a:xfrm>
            <a:off x="5213520" y="4343400"/>
            <a:ext cx="95040" cy="921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4760" bIns="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Oval 8"/>
          <p:cNvSpPr/>
          <p:nvPr/>
        </p:nvSpPr>
        <p:spPr>
          <a:xfrm>
            <a:off x="4770360" y="4343400"/>
            <a:ext cx="93600" cy="921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4760" bIns="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60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507960" y="1771200"/>
            <a:ext cx="913464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675"/>
              </a:spcBef>
              <a:buClr>
                <a:srgbClr val="7f7f7f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1" marL="822240" indent="-315720">
              <a:spcBef>
                <a:spcPts val="675"/>
              </a:spcBef>
              <a:buClr>
                <a:srgbClr val="7f7f7f"/>
              </a:buClr>
              <a:buFont typeface="Courier New"/>
              <a:buChar char="o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2" marL="1266840" indent="-252360">
              <a:spcBef>
                <a:spcPts val="675"/>
              </a:spcBef>
              <a:buClr>
                <a:srgbClr val="7f7f7f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3" marL="1773360" indent="-252360">
              <a:spcBef>
                <a:spcPts val="675"/>
              </a:spcBef>
              <a:buClr>
                <a:srgbClr val="7f7f7f"/>
              </a:buClr>
              <a:buFont typeface="Courier New"/>
              <a:buChar char="o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4" marL="2279520" indent="-252360">
              <a:spcBef>
                <a:spcPts val="675"/>
              </a:spcBef>
              <a:buClr>
                <a:srgbClr val="7f7f7f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5" marL="2279520" indent="-252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6" marL="2279520" indent="-252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6"/>
          </p:nvPr>
        </p:nvSpPr>
        <p:spPr>
          <a:xfrm>
            <a:off x="7064280" y="7033680"/>
            <a:ext cx="2314800" cy="40500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D8675-24FB-46DF-BE60-2B796A97ADB7}" type="datetime">
              <a:rPr b="0" lang="ru-RU" sz="1300" spc="-1" strike="noStrike">
                <a:solidFill>
                  <a:srgbClr val="595959"/>
                </a:solidFill>
                <a:latin typeface="Century Gothic"/>
              </a:rPr>
              <a:t>31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17"/>
          </p:nvPr>
        </p:nvSpPr>
        <p:spPr>
          <a:xfrm>
            <a:off x="731880" y="7033680"/>
            <a:ext cx="3160800" cy="4050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18"/>
          </p:nvPr>
        </p:nvSpPr>
        <p:spPr>
          <a:xfrm>
            <a:off x="9483480" y="7033680"/>
            <a:ext cx="623880" cy="405000"/>
          </a:xfrm>
          <a:prstGeom prst="rect">
            <a:avLst/>
          </a:prstGeom>
          <a:noFill/>
          <a:ln w="0">
            <a:noFill/>
          </a:ln>
        </p:spPr>
        <p:txBody>
          <a:bodyPr lIns="30240" rIns="5076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72AF9-BF62-4090-8447-1F210D8C8258}" type="slidenum">
              <a:rPr b="0" lang="ru-RU" sz="13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Oval 6"/>
          <p:cNvSpPr/>
          <p:nvPr/>
        </p:nvSpPr>
        <p:spPr>
          <a:xfrm>
            <a:off x="9388440" y="7192800"/>
            <a:ext cx="93600" cy="939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Oval 7"/>
          <p:cNvSpPr/>
          <p:nvPr/>
        </p:nvSpPr>
        <p:spPr>
          <a:xfrm>
            <a:off x="633240" y="7192800"/>
            <a:ext cx="92160" cy="939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60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507960" y="1771200"/>
            <a:ext cx="913464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675"/>
              </a:spcBef>
              <a:buClr>
                <a:srgbClr val="7f7f7f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1" marL="822240" indent="-315720">
              <a:spcBef>
                <a:spcPts val="675"/>
              </a:spcBef>
              <a:buClr>
                <a:srgbClr val="7f7f7f"/>
              </a:buClr>
              <a:buFont typeface="Courier New"/>
              <a:buChar char="o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2" marL="1266840" indent="-252360">
              <a:spcBef>
                <a:spcPts val="675"/>
              </a:spcBef>
              <a:buClr>
                <a:srgbClr val="7f7f7f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3" marL="1773360" indent="-252360">
              <a:spcBef>
                <a:spcPts val="675"/>
              </a:spcBef>
              <a:buClr>
                <a:srgbClr val="7f7f7f"/>
              </a:buClr>
              <a:buFont typeface="Courier New"/>
              <a:buChar char="o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4" marL="2279520" indent="-252360">
              <a:spcBef>
                <a:spcPts val="675"/>
              </a:spcBef>
              <a:buClr>
                <a:srgbClr val="7f7f7f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5" marL="2279520" indent="-252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6" marL="2279520" indent="-252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9"/>
          </p:nvPr>
        </p:nvSpPr>
        <p:spPr>
          <a:xfrm>
            <a:off x="7064280" y="7033680"/>
            <a:ext cx="2314800" cy="40500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5F62B-DA95-47AD-B872-325D41D24C60}" type="datetime">
              <a:rPr b="0" lang="ru-RU" sz="1300" spc="-1" strike="noStrike">
                <a:solidFill>
                  <a:srgbClr val="595959"/>
                </a:solidFill>
                <a:latin typeface="Century Gothic"/>
              </a:rPr>
              <a:t>31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0"/>
          </p:nvPr>
        </p:nvSpPr>
        <p:spPr>
          <a:xfrm>
            <a:off x="731880" y="7033680"/>
            <a:ext cx="3160800" cy="4050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1"/>
          </p:nvPr>
        </p:nvSpPr>
        <p:spPr>
          <a:xfrm>
            <a:off x="9483480" y="7033680"/>
            <a:ext cx="623880" cy="405000"/>
          </a:xfrm>
          <a:prstGeom prst="rect">
            <a:avLst/>
          </a:prstGeom>
          <a:noFill/>
          <a:ln w="0">
            <a:noFill/>
          </a:ln>
        </p:spPr>
        <p:txBody>
          <a:bodyPr lIns="30240" rIns="5076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E4CEF-C696-4CB2-81CE-999F9B1BE8C1}" type="slidenum">
              <a:rPr b="0" lang="ru-RU" sz="13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Oval 6"/>
          <p:cNvSpPr/>
          <p:nvPr/>
        </p:nvSpPr>
        <p:spPr>
          <a:xfrm>
            <a:off x="9388440" y="7192800"/>
            <a:ext cx="93600" cy="939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Oval 7"/>
          <p:cNvSpPr/>
          <p:nvPr/>
        </p:nvSpPr>
        <p:spPr>
          <a:xfrm>
            <a:off x="633240" y="7192800"/>
            <a:ext cx="92160" cy="939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9134640" cy="177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ts val="6423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60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507960" y="1771200"/>
            <a:ext cx="9134640" cy="500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675"/>
              </a:spcBef>
              <a:buClr>
                <a:srgbClr val="7f7f7f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1" marL="822240" indent="-315720">
              <a:spcBef>
                <a:spcPts val="675"/>
              </a:spcBef>
              <a:buClr>
                <a:srgbClr val="7f7f7f"/>
              </a:buClr>
              <a:buFont typeface="Courier New"/>
              <a:buChar char="o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2" marL="1266840" indent="-252360">
              <a:spcBef>
                <a:spcPts val="675"/>
              </a:spcBef>
              <a:buClr>
                <a:srgbClr val="7f7f7f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3" marL="1773360" indent="-252360">
              <a:spcBef>
                <a:spcPts val="675"/>
              </a:spcBef>
              <a:buClr>
                <a:srgbClr val="7f7f7f"/>
              </a:buClr>
              <a:buFont typeface="Courier New"/>
              <a:buChar char="o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4" marL="2279520" indent="-252360">
              <a:spcBef>
                <a:spcPts val="675"/>
              </a:spcBef>
              <a:buClr>
                <a:srgbClr val="7f7f7f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5" marL="2279520" indent="-252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6" marL="2279520" indent="-252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2"/>
          </p:nvPr>
        </p:nvSpPr>
        <p:spPr>
          <a:xfrm>
            <a:off x="7064280" y="7033680"/>
            <a:ext cx="2314800" cy="40500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8C778-168A-4678-9B5C-26D7D6D96855}" type="datetime">
              <a:rPr b="0" lang="ru-RU" sz="1300" spc="-1" strike="noStrike">
                <a:solidFill>
                  <a:srgbClr val="595959"/>
                </a:solidFill>
                <a:latin typeface="Century Gothic"/>
              </a:rPr>
              <a:t>31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3"/>
          </p:nvPr>
        </p:nvSpPr>
        <p:spPr>
          <a:xfrm>
            <a:off x="731880" y="7033680"/>
            <a:ext cx="3160800" cy="4050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4"/>
          </p:nvPr>
        </p:nvSpPr>
        <p:spPr>
          <a:xfrm>
            <a:off x="9483480" y="7033680"/>
            <a:ext cx="623880" cy="405000"/>
          </a:xfrm>
          <a:prstGeom prst="rect">
            <a:avLst/>
          </a:prstGeom>
          <a:noFill/>
          <a:ln w="0">
            <a:noFill/>
          </a:ln>
        </p:spPr>
        <p:txBody>
          <a:bodyPr lIns="30240" rIns="5076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73E94-B353-40B6-A8C8-1A14C1D48FFC}" type="slidenum">
              <a:rPr b="0" lang="ru-RU" sz="13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TextBox 12"/>
          <p:cNvSpPr/>
          <p:nvPr/>
        </p:nvSpPr>
        <p:spPr>
          <a:xfrm>
            <a:off x="646200" y="1494000"/>
            <a:ext cx="525780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The Ultimate PowerPoint Design Pack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9" name="Picture 9" descr="EmailBackground"/>
          <p:cNvPicPr/>
          <p:nvPr/>
        </p:nvPicPr>
        <p:blipFill>
          <a:blip r:embed="rId1"/>
          <a:stretch/>
        </p:blipFill>
        <p:spPr>
          <a:xfrm>
            <a:off x="0" y="155520"/>
            <a:ext cx="10150560" cy="7450200"/>
          </a:xfrm>
          <a:prstGeom prst="rect">
            <a:avLst/>
          </a:prstGeom>
          <a:ln w="0">
            <a:noFill/>
          </a:ln>
        </p:spPr>
      </p:pic>
      <p:sp>
        <p:nvSpPr>
          <p:cNvPr id="1130" name="Rectangle 15"/>
          <p:cNvSpPr/>
          <p:nvPr/>
        </p:nvSpPr>
        <p:spPr>
          <a:xfrm>
            <a:off x="0" y="214200"/>
            <a:ext cx="10150560" cy="358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1" name="Picture 18" descr="Russia_emblem"/>
          <p:cNvPicPr/>
          <p:nvPr/>
        </p:nvPicPr>
        <p:blipFill>
          <a:blip r:embed="rId2"/>
          <a:stretch/>
        </p:blipFill>
        <p:spPr>
          <a:xfrm>
            <a:off x="731880" y="214200"/>
            <a:ext cx="1079280" cy="1079640"/>
          </a:xfrm>
          <a:prstGeom prst="rect">
            <a:avLst/>
          </a:prstGeom>
          <a:ln w="0">
            <a:noFill/>
          </a:ln>
        </p:spPr>
      </p:pic>
      <p:sp>
        <p:nvSpPr>
          <p:cNvPr id="1132" name="Text Box 20"/>
          <p:cNvSpPr/>
          <p:nvPr/>
        </p:nvSpPr>
        <p:spPr>
          <a:xfrm>
            <a:off x="1951200" y="290520"/>
            <a:ext cx="64767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Arial"/>
              </a:rPr>
              <a:t>Министерство образования и науки Российской Федер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Rectangle 21"/>
          <p:cNvSpPr/>
          <p:nvPr/>
        </p:nvSpPr>
        <p:spPr>
          <a:xfrm>
            <a:off x="0" y="6996240"/>
            <a:ext cx="1015056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Text Box 33"/>
          <p:cNvSpPr/>
          <p:nvPr/>
        </p:nvSpPr>
        <p:spPr>
          <a:xfrm>
            <a:off x="579600" y="1738440"/>
            <a:ext cx="9144000" cy="22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О федеральной целевой программе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«Исследования и разработки по приоритетным направлениям развития научно-технологического комплекса России» на 2014-2020 год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Rectangle 36"/>
          <p:cNvSpPr/>
          <p:nvPr/>
        </p:nvSpPr>
        <p:spPr>
          <a:xfrm>
            <a:off x="122400" y="6996240"/>
            <a:ext cx="1015020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Text Box 33"/>
          <p:cNvSpPr/>
          <p:nvPr/>
        </p:nvSpPr>
        <p:spPr>
          <a:xfrm>
            <a:off x="655560" y="5929200"/>
            <a:ext cx="8925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Директор департамен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науки и технологий                                                          С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ергей 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Салих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Text Box 7"/>
          <p:cNvSpPr/>
          <p:nvPr/>
        </p:nvSpPr>
        <p:spPr>
          <a:xfrm>
            <a:off x="119160" y="646200"/>
            <a:ext cx="99550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algn="ctr"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Мероприятия по запуску программы «Исследования и разработки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Text Box 11"/>
          <p:cNvSpPr/>
          <p:nvPr/>
        </p:nvSpPr>
        <p:spPr>
          <a:xfrm>
            <a:off x="0" y="109440"/>
            <a:ext cx="538020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Palatino Linotype"/>
              </a:rPr>
              <a:t>ФЦП Исследования и разработки и Кадры 2014-202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Text Box 11"/>
          <p:cNvSpPr/>
          <p:nvPr/>
        </p:nvSpPr>
        <p:spPr>
          <a:xfrm>
            <a:off x="8186760" y="69840"/>
            <a:ext cx="156996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Palatino Linotype"/>
              </a:rPr>
              <a:t>Минобрнауки Росс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9" name="Picture 18" descr="Russia_emblem"/>
          <p:cNvPicPr/>
          <p:nvPr/>
        </p:nvPicPr>
        <p:blipFill>
          <a:blip r:embed="rId1"/>
          <a:stretch/>
        </p:blipFill>
        <p:spPr>
          <a:xfrm>
            <a:off x="9693360" y="19044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1200" name="Номер слайда 5"/>
          <p:cNvSpPr/>
          <p:nvPr/>
        </p:nvSpPr>
        <p:spPr>
          <a:xfrm>
            <a:off x="3932280" y="7118280"/>
            <a:ext cx="21337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3C978-5C8C-4833-AFEB-21678BEF3CBE}" type="slidenum">
              <a:rPr b="1" lang="ru-RU" sz="1800" spc="-1" strike="noStrike">
                <a:solidFill>
                  <a:srgbClr val="002060"/>
                </a:solidFill>
                <a:latin typeface="Palatino Linotype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01" name=""/>
          <p:cNvGraphicFramePr/>
          <p:nvPr/>
        </p:nvGraphicFramePr>
        <p:xfrm>
          <a:off x="426960" y="1128600"/>
          <a:ext cx="9448920" cy="6100920"/>
        </p:xfrm>
        <a:graphic>
          <a:graphicData uri="http://schemas.openxmlformats.org/drawingml/2006/table">
            <a:tbl>
              <a:tblPr/>
              <a:tblGrid>
                <a:gridCol w="852480"/>
                <a:gridCol w="154080"/>
                <a:gridCol w="1393920"/>
                <a:gridCol w="155520"/>
                <a:gridCol w="6892920"/>
              </a:tblGrid>
              <a:tr h="303480">
                <a:tc rowSpan="5">
                  <a:txBody>
                    <a:bodyPr lIns="26280" rIns="26280" tIns="432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6280" marR="26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6280" rIns="26280" tIns="432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6280" marR="26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6280" rIns="26280" tIns="432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4 сентябр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6280" marR="26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6280" rIns="26280" tIns="432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6280" marR="26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6280" rIns="26280" tIns="432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Объявление о запуске Програм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6280" marR="26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6280" rIns="26280" tIns="432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6280" marR="26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6280" rIns="26280" tIns="432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30 сентябр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6280" marR="26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6280" rIns="26280" tIns="432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6280" marR="26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6280" rIns="26280" tIns="43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Начало приема Предложений по формирование тематики исследований (проектов) по мероприятиям 1.2, 1.3, 2.1, 2.2, 3.3.1 и 3.3.2 Програм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6280" marR="26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9160" rIns="29160" tIns="468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9160" marR="29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9160" rIns="29160" tIns="468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Октябрь -но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9160" marR="29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9160" rIns="29160" tIns="468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9160" marR="29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9160" rIns="29160" tIns="468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Проведение заседаний научно-координационного совета Програм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9160" marR="29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9160" rIns="29160" tIns="468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9160" marR="29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9160" rIns="29160" tIns="468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Ноябрь -дека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9160" marR="29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9160" rIns="29160" tIns="468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9160" marR="29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9160" rIns="29160" tIns="468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- Объявление конкурсов по отбору организаций для предоставления субсидий. Мероприятия 1.2, 1.3, 2.1, 2.2, 3.3.1 и 3.3.2, 1 очеред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- Объявление конкурсов на право заключения госконтрактов на выполнение работ. Мероприятие 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9160" marR="29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9160" rIns="29160" tIns="468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9160" marR="29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9160" rIns="29160" tIns="468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Октябрь -дека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9160" marR="29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9160" rIns="29160" tIns="468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9160" marR="29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9160" rIns="29160" tIns="468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Проведение консультативных семинаров по участию в реализации Програм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9160" marR="29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5520">
                <a:tc rowSpan="4">
                  <a:txBody>
                    <a:bodyPr lIns="29160" rIns="29160" tIns="468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9160" marR="29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9160" rIns="29160" tIns="468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9160" marR="29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9160" rIns="29160" tIns="468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Янва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9160" marR="29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9160" rIns="29160" tIns="468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9160" marR="29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9160" rIns="29160" tIns="468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- Подведение итогов конкурсов 1 очереди. Заключение Соглашений о предоставлении субсидии и гоконтрактов на выполнение рабо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9160" marR="29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6280" rIns="26280" tIns="432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6280" marR="26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6280" rIns="26280" tIns="432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Январь - ма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6280" marR="26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6280" rIns="26280" tIns="432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6280" marR="26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6280" rIns="26280" tIns="432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- Объявление конкурсов по отбору организаций для предоставления субсид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- Проведение заседаний научно-координационного совета Програм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- Объявление конкурсов на право заключения госконтрактов на выполнение рабо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2060"/>
                        </a:buClr>
                        <a:buFont typeface="Calibri"/>
                        <a:buChar char="-"/>
                        <a:tabLst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Подведение итогов конкурсов. Заключение Соглашений о предоставлении субсидии на выполнение рабо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- Проведение консультативных семинаров по участию в реализации Програм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6280" marR="26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4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6280" rIns="26280" tIns="432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6280" marR="26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6280" rIns="26280" tIns="432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Июль - авгу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6280" marR="26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6280" rIns="26280" tIns="432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6280" marR="26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6280" rIns="26280" tIns="43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buClr>
                          <a:srgbClr val="002060"/>
                        </a:buClr>
                        <a:buFont typeface="Calibri"/>
                        <a:buChar char="-"/>
                        <a:tabLst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Отчет о выполненных работ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2060"/>
                        </a:buClr>
                        <a:buFont typeface="Calibri"/>
                        <a:buChar char="-"/>
                        <a:tabLst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Проведение заседаний научно-координационного совета Програм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2060"/>
                        </a:buClr>
                        <a:buFont typeface="Calibri"/>
                        <a:buChar char="-"/>
                        <a:tabLst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Объявление конкурсов по отбору организаций для предоставления субсид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- Объявление конкурсов на право заключения госконтрактов на выполнение рабо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6280" marR="26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5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6280" rIns="26280" tIns="432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6280" marR="26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6280" rIns="26280" tIns="432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Ноябрь -дека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6280" marR="26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6280" rIns="26280" tIns="432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6280" marR="26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6280" rIns="26280" tIns="43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buClr>
                          <a:srgbClr val="002060"/>
                        </a:buClr>
                        <a:buFont typeface="Calibri"/>
                        <a:buChar char="-"/>
                        <a:tabLst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Отчет о выполненных работ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- Подготовка мероприятий 2015 и последующих годов реализации Програм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6280" marR="26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240">
                <a:tc>
                  <a:txBody>
                    <a:bodyPr lIns="26280" rIns="26280" tIns="432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6280" marR="26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6280" rIns="26280" tIns="432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6280" marR="26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6280" rIns="26280" tIns="432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Янва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6280" marR="26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6280" rIns="26280" tIns="432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6280" marR="26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6280" rIns="26280" tIns="43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Комиссионная приемка выполненных работ в рамках научных семинаров/конферен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6280" marR="26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>
                  <a:txBody>
                    <a:bodyPr lIns="26280" rIns="26280" tIns="432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6280" marR="26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6280" rIns="26280" tIns="432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6280" marR="26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6280" rIns="26280" tIns="432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6280" marR="26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6280" rIns="26280" tIns="432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6280" marR="26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6280" rIns="26280" tIns="43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Далее без останов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6280" marR="26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Text Box 11"/>
          <p:cNvSpPr/>
          <p:nvPr/>
        </p:nvSpPr>
        <p:spPr>
          <a:xfrm>
            <a:off x="8186760" y="69840"/>
            <a:ext cx="156996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Palatino Linotype"/>
              </a:rPr>
              <a:t>Минобрнауки Росс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8" name="Picture 18" descr="Russia_emblem"/>
          <p:cNvPicPr/>
          <p:nvPr/>
        </p:nvPicPr>
        <p:blipFill>
          <a:blip r:embed="rId1"/>
          <a:stretch/>
        </p:blipFill>
        <p:spPr>
          <a:xfrm>
            <a:off x="9693360" y="19044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1139" name="Text Box 7"/>
          <p:cNvSpPr/>
          <p:nvPr/>
        </p:nvSpPr>
        <p:spPr>
          <a:xfrm>
            <a:off x="369720" y="731880"/>
            <a:ext cx="9126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algn="ctr"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Основания для разработки ФЦП на 2014-2020 го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Номер слайда 5"/>
          <p:cNvSpPr/>
          <p:nvPr/>
        </p:nvSpPr>
        <p:spPr>
          <a:xfrm>
            <a:off x="3932280" y="7118280"/>
            <a:ext cx="21337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D034C-DEFF-4292-B364-4CB23405E22F}" type="slidenum">
              <a:rPr b="1" lang="ru-RU" sz="1800" spc="-1" strike="noStrike">
                <a:solidFill>
                  <a:srgbClr val="002060"/>
                </a:solidFill>
                <a:latin typeface="Palatino Linotype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Прямоугольник 8"/>
          <p:cNvSpPr/>
          <p:nvPr/>
        </p:nvSpPr>
        <p:spPr>
          <a:xfrm>
            <a:off x="122400" y="2043000"/>
            <a:ext cx="9951840" cy="38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7200" indent="-457200"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Calibri"/>
              </a:rPr>
              <a:t>Поручение Президента Российской Федерации от 19 февраля 2011 года № Пр-412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Calibri"/>
              </a:rPr>
              <a:t>Поручение Председателя Правительства Российской Федерации </a:t>
            </a:r>
            <a:br>
              <a:rPr sz="1900"/>
            </a:br>
            <a:r>
              <a:rPr b="0" lang="ru-RU" sz="1900" spc="-1" strike="noStrike">
                <a:solidFill>
                  <a:srgbClr val="002060"/>
                </a:solidFill>
                <a:latin typeface="Calibri"/>
              </a:rPr>
              <a:t>от 23 июля 2012 г. № ДМ-П8-4206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Calibri"/>
              </a:rPr>
              <a:t>Основные направления деятельности Правительства Российской Федерации на период до 2018 года (утверждены Председателем Правительства Российской Федерации </a:t>
            </a:r>
            <a:r>
              <a:rPr b="0" lang="en-US" sz="1900" spc="-1" strike="noStrike">
                <a:solidFill>
                  <a:srgbClr val="002060"/>
                </a:solidFill>
                <a:latin typeface="Calibri"/>
              </a:rPr>
              <a:t>                   </a:t>
            </a:r>
            <a:r>
              <a:rPr b="0" lang="ru-RU" sz="1900" spc="-1" strike="noStrike">
                <a:solidFill>
                  <a:srgbClr val="002060"/>
                </a:solidFill>
                <a:latin typeface="Calibri"/>
              </a:rPr>
              <a:t>31 января 2013 года)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Calibri"/>
              </a:rPr>
              <a:t>Государственная программа Российской Федерации «Развитие науки и технологий», утвержденная распоряжением Правительства Российской Федерации </a:t>
            </a:r>
            <a:br>
              <a:rPr sz="1900"/>
            </a:br>
            <a:r>
              <a:rPr b="0" lang="ru-RU" sz="1900" spc="-1" strike="noStrike">
                <a:solidFill>
                  <a:srgbClr val="002060"/>
                </a:solidFill>
                <a:latin typeface="Calibri"/>
              </a:rPr>
              <a:t>от 20 декабря </a:t>
            </a:r>
            <a:r>
              <a:rPr b="0" lang="en-US" sz="1900" spc="-1" strike="noStrike">
                <a:solidFill>
                  <a:srgbClr val="002060"/>
                </a:solidFill>
                <a:latin typeface="Calibri"/>
              </a:rPr>
              <a:t>2</a:t>
            </a:r>
            <a:r>
              <a:rPr b="0" lang="ru-RU" sz="1900" spc="-1" strike="noStrike">
                <a:solidFill>
                  <a:srgbClr val="002060"/>
                </a:solidFill>
                <a:latin typeface="Calibri"/>
              </a:rPr>
              <a:t>012 г. N 2433-р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Text Box 11"/>
          <p:cNvSpPr/>
          <p:nvPr/>
        </p:nvSpPr>
        <p:spPr>
          <a:xfrm>
            <a:off x="0" y="109440"/>
            <a:ext cx="538020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Palatino Linotype"/>
              </a:rPr>
              <a:t>ФЦП Исследования и разработки и Кадры 2014-202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3" name=""/>
          <p:cNvGraphicFramePr/>
          <p:nvPr/>
        </p:nvGraphicFramePr>
        <p:xfrm>
          <a:off x="612720" y="1204920"/>
          <a:ext cx="8915400" cy="5738760"/>
        </p:xfrm>
        <a:graphic>
          <a:graphicData uri="http://schemas.openxmlformats.org/drawingml/2006/table">
            <a:tbl>
              <a:tblPr/>
              <a:tblGrid>
                <a:gridCol w="6781680"/>
                <a:gridCol w="2133720"/>
              </a:tblGrid>
              <a:tr h="801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dfe4f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34271"/>
                          </a:solidFill>
                          <a:latin typeface="Calibri"/>
                        </a:rPr>
                        <a:t>ФЦП ИиР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34271"/>
                          </a:solidFill>
                          <a:latin typeface="Calibri"/>
                        </a:rPr>
                        <a:t>Финансирование из федерального бюджета / внебюджетные источники, млрд.руб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34271"/>
                          </a:solidFill>
                          <a:latin typeface="Calibri"/>
                        </a:rPr>
                        <a:t>9</a:t>
                      </a:r>
                      <a:r>
                        <a:rPr b="1" lang="en-US" sz="2000" spc="-1" strike="noStrike">
                          <a:solidFill>
                            <a:srgbClr val="234271"/>
                          </a:solidFill>
                          <a:latin typeface="Calibri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234271"/>
                          </a:solidFill>
                          <a:latin typeface="Calibri"/>
                        </a:rPr>
                        <a:t>,1</a:t>
                      </a:r>
                      <a:r>
                        <a:rPr b="1" lang="en-US" sz="2000" spc="-1" strike="noStrike">
                          <a:solidFill>
                            <a:srgbClr val="234271"/>
                          </a:solidFill>
                          <a:latin typeface="Calibri"/>
                        </a:rPr>
                        <a:t>4</a:t>
                      </a:r>
                      <a:r>
                        <a:rPr b="1" lang="ru-RU" sz="2000" spc="-1" strike="noStrike">
                          <a:solidFill>
                            <a:srgbClr val="234271"/>
                          </a:solidFill>
                          <a:latin typeface="Calibri"/>
                        </a:rPr>
                        <a:t> /</a:t>
                      </a:r>
                      <a:r>
                        <a:rPr b="1" lang="en-US" sz="2000" spc="-1" strike="noStrike">
                          <a:solidFill>
                            <a:srgbClr val="234271"/>
                          </a:solidFill>
                          <a:latin typeface="Calibri"/>
                        </a:rPr>
                        <a:t>6</a:t>
                      </a:r>
                      <a:r>
                        <a:rPr b="1" lang="ru-RU" sz="2000" spc="-1" strike="noStrike">
                          <a:solidFill>
                            <a:srgbClr val="234271"/>
                          </a:solidFill>
                          <a:latin typeface="Calibri"/>
                        </a:rPr>
                        <a:t>7,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34271"/>
                          </a:solidFill>
                          <a:latin typeface="Calibri"/>
                        </a:rPr>
                        <a:t>Конкурсная активность (контракты/заявк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34271"/>
                          </a:solidFill>
                          <a:latin typeface="Calibri"/>
                        </a:rPr>
                        <a:t>5</a:t>
                      </a:r>
                      <a:r>
                        <a:rPr b="1" lang="ru-RU" sz="2000" spc="-1" strike="noStrike">
                          <a:solidFill>
                            <a:srgbClr val="234271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234271"/>
                          </a:solidFill>
                          <a:latin typeface="Calibri"/>
                        </a:rPr>
                        <a:t>072</a:t>
                      </a:r>
                      <a:r>
                        <a:rPr b="1" lang="ru-RU" sz="2000" spc="-1" strike="noStrike">
                          <a:solidFill>
                            <a:srgbClr val="234271"/>
                          </a:solidFill>
                          <a:latin typeface="Calibri"/>
                        </a:rPr>
                        <a:t> / 1</a:t>
                      </a:r>
                      <a:r>
                        <a:rPr b="1" lang="en-US" sz="2000" spc="-1" strike="noStrike">
                          <a:solidFill>
                            <a:srgbClr val="234271"/>
                          </a:solidFill>
                          <a:latin typeface="Calibri"/>
                        </a:rPr>
                        <a:t>8</a:t>
                      </a:r>
                      <a:r>
                        <a:rPr b="1" lang="ru-RU" sz="2000" spc="-1" strike="noStrike">
                          <a:solidFill>
                            <a:srgbClr val="234271"/>
                          </a:solidFill>
                          <a:latin typeface="Calibri"/>
                        </a:rPr>
                        <a:t> 5</a:t>
                      </a:r>
                      <a:r>
                        <a:rPr b="1" lang="en-US" sz="2000" spc="-1" strike="noStrike">
                          <a:solidFill>
                            <a:srgbClr val="234271"/>
                          </a:solidFill>
                          <a:latin typeface="Calibri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34271"/>
                          </a:solidFill>
                          <a:latin typeface="Calibri"/>
                        </a:rPr>
                        <a:t>Подготовлено и защищено диссертац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34271"/>
                          </a:solidFill>
                          <a:latin typeface="Calibri"/>
                        </a:rPr>
                        <a:t>3 </a:t>
                      </a:r>
                      <a:r>
                        <a:rPr b="1" lang="en-US" sz="2000" spc="-1" strike="noStrike">
                          <a:solidFill>
                            <a:srgbClr val="234271"/>
                          </a:solidFill>
                          <a:latin typeface="Calibri"/>
                        </a:rPr>
                        <a:t>377</a:t>
                      </a:r>
                      <a:r>
                        <a:rPr b="1" lang="ru-RU" sz="2000" spc="-1" strike="noStrike">
                          <a:solidFill>
                            <a:srgbClr val="234271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34271"/>
                          </a:solidFill>
                          <a:latin typeface="Calibri"/>
                        </a:rPr>
                        <a:t>Опубликовано научных стат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34271"/>
                          </a:solidFill>
                          <a:latin typeface="Calibri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234271"/>
                          </a:solidFill>
                          <a:latin typeface="Calibri"/>
                        </a:rPr>
                        <a:t>3</a:t>
                      </a:r>
                      <a:r>
                        <a:rPr b="1" lang="ru-RU" sz="2000" spc="-1" strike="noStrike">
                          <a:solidFill>
                            <a:srgbClr val="234271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234271"/>
                          </a:solidFill>
                          <a:latin typeface="Calibri"/>
                        </a:rPr>
                        <a:t>243</a:t>
                      </a:r>
                      <a:r>
                        <a:rPr b="1" lang="ru-RU" sz="2000" spc="-1" strike="noStrike">
                          <a:solidFill>
                            <a:srgbClr val="234271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34271"/>
                          </a:solidFill>
                          <a:latin typeface="Calibri"/>
                        </a:rPr>
                        <a:t>Оформлено и получено патентов и заявок на получение патен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34271"/>
                          </a:solidFill>
                          <a:latin typeface="Calibri"/>
                        </a:rPr>
                        <a:t>2 5</a:t>
                      </a:r>
                      <a:r>
                        <a:rPr b="1" lang="en-US" sz="2000" spc="-1" strike="noStrike">
                          <a:solidFill>
                            <a:srgbClr val="234271"/>
                          </a:solidFill>
                          <a:latin typeface="Calibri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r>
                        <a:rPr b="1" lang="ru-RU" sz="2000" spc="-1" strike="noStrike">
                          <a:solidFill>
                            <a:srgbClr val="234271"/>
                          </a:solidFill>
                          <a:latin typeface="Calibri"/>
                        </a:rPr>
                        <a:t>Привлечено к проведению исследований молодых специалистов (до 35 лет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r>
                        <a:rPr b="1" lang="en-US" sz="2000" spc="-1" strike="noStrike">
                          <a:solidFill>
                            <a:srgbClr val="234271"/>
                          </a:solidFill>
                          <a:latin typeface="Calibri"/>
                        </a:rPr>
                        <a:t>51</a:t>
                      </a:r>
                      <a:r>
                        <a:rPr b="1" lang="ru-RU" sz="2000" spc="-1" strike="noStrike">
                          <a:solidFill>
                            <a:srgbClr val="234271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234271"/>
                          </a:solidFill>
                          <a:latin typeface="Calibri"/>
                        </a:rPr>
                        <a:t>527</a:t>
                      </a:r>
                      <a:r>
                        <a:rPr b="1" lang="ru-RU" sz="2000" spc="-1" strike="noStrike">
                          <a:solidFill>
                            <a:srgbClr val="234271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r>
                        <a:rPr b="1" lang="ru-RU" sz="2000" spc="-1" strike="noStrike">
                          <a:solidFill>
                            <a:srgbClr val="234271"/>
                          </a:solidFill>
                          <a:latin typeface="Calibri"/>
                        </a:rPr>
                        <a:t>Исполнение бюджета програм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r>
                        <a:rPr b="1" lang="ru-RU" sz="2000" spc="-1" strike="noStrike">
                          <a:solidFill>
                            <a:srgbClr val="234271"/>
                          </a:solidFill>
                          <a:latin typeface="Calibri"/>
                        </a:rPr>
                        <a:t>89,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4" name="Заголовок 1"/>
          <p:cNvSpPr/>
          <p:nvPr/>
        </p:nvSpPr>
        <p:spPr>
          <a:xfrm>
            <a:off x="503280" y="595440"/>
            <a:ext cx="9134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algn="ctr"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Итоги реализации ФЦП на 17 сентября 2013 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Text Box 11"/>
          <p:cNvSpPr/>
          <p:nvPr/>
        </p:nvSpPr>
        <p:spPr>
          <a:xfrm>
            <a:off x="8186760" y="69840"/>
            <a:ext cx="156996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Palatino Linotype"/>
              </a:rPr>
              <a:t>Минобрнауки Росс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6" name="Picture 18" descr="Russia_emblem"/>
          <p:cNvPicPr/>
          <p:nvPr/>
        </p:nvPicPr>
        <p:blipFill>
          <a:blip r:embed="rId1"/>
          <a:stretch/>
        </p:blipFill>
        <p:spPr>
          <a:xfrm>
            <a:off x="9693360" y="19044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1147" name="Номер слайда 5"/>
          <p:cNvSpPr/>
          <p:nvPr/>
        </p:nvSpPr>
        <p:spPr>
          <a:xfrm>
            <a:off x="3932280" y="7118280"/>
            <a:ext cx="21337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D3CE-FD4E-4C2B-AEC4-2E1AC1B44BD0}" type="slidenum">
              <a:rPr b="1" lang="ru-RU" sz="1800" spc="-1" strike="noStrike">
                <a:solidFill>
                  <a:srgbClr val="002060"/>
                </a:solidFill>
                <a:latin typeface="Palatino Linotype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Rectangle 17"/>
          <p:cNvSpPr/>
          <p:nvPr/>
        </p:nvSpPr>
        <p:spPr>
          <a:xfrm>
            <a:off x="426960" y="4557600"/>
            <a:ext cx="9525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4271"/>
                </a:solidFill>
                <a:latin typeface="Calibri"/>
              </a:rPr>
              <a:t>Количество разработанных новых технологий, ед.                         </a:t>
            </a:r>
            <a:r>
              <a:rPr b="0" lang="ru-RU" sz="1800" spc="-1" strike="noStrike">
                <a:solidFill>
                  <a:srgbClr val="234271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234271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234271"/>
                </a:solidFill>
                <a:latin typeface="Calibri"/>
              </a:rPr>
              <a:t>- 27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4271"/>
                </a:solidFill>
                <a:latin typeface="Calibri"/>
              </a:rPr>
              <a:t>Выпуск новой и усовершенствованно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4271"/>
                </a:solidFill>
                <a:latin typeface="Calibri"/>
              </a:rPr>
              <a:t>продукции (всего/экспорт), млрд. руб.                                                 </a:t>
            </a:r>
            <a:r>
              <a:rPr b="0" lang="ru-RU" sz="1800" spc="-1" strike="noStrike">
                <a:solidFill>
                  <a:srgbClr val="234271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234271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234271"/>
                </a:solidFill>
                <a:latin typeface="Calibri"/>
              </a:rPr>
              <a:t>-  181,48/31,4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4271"/>
                </a:solidFill>
                <a:latin typeface="Calibri"/>
              </a:rPr>
              <a:t>Число молодых исследователей</a:t>
            </a:r>
            <a:br>
              <a:rPr sz="1800"/>
            </a:br>
            <a:r>
              <a:rPr b="0" lang="ru-RU" sz="1800" spc="-1" strike="noStrike">
                <a:solidFill>
                  <a:srgbClr val="234271"/>
                </a:solidFill>
                <a:latin typeface="Calibri"/>
              </a:rPr>
              <a:t>(студенты, аспиранты, докторанты,</a:t>
            </a:r>
            <a:br>
              <a:rPr sz="1800"/>
            </a:br>
            <a:r>
              <a:rPr b="0" lang="ru-RU" sz="1800" spc="-1" strike="noStrike">
                <a:solidFill>
                  <a:srgbClr val="234271"/>
                </a:solidFill>
                <a:latin typeface="Calibri"/>
              </a:rPr>
              <a:t> молодые исследователи до 35 лет), получивших </a:t>
            </a:r>
            <a:br>
              <a:rPr sz="1800"/>
            </a:br>
            <a:r>
              <a:rPr b="0" lang="ru-RU" sz="1800" spc="-1" strike="noStrike">
                <a:solidFill>
                  <a:srgbClr val="234271"/>
                </a:solidFill>
                <a:latin typeface="Calibri"/>
              </a:rPr>
              <a:t>постоянные позиции в сфере образования и высоких технологий </a:t>
            </a:r>
            <a:r>
              <a:rPr b="0" lang="ru-RU" sz="1800" spc="-1" strike="noStrike">
                <a:solidFill>
                  <a:srgbClr val="234271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234271"/>
                </a:solidFill>
                <a:latin typeface="Calibri"/>
              </a:rPr>
              <a:t>-  17 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Text Box 11"/>
          <p:cNvSpPr/>
          <p:nvPr/>
        </p:nvSpPr>
        <p:spPr>
          <a:xfrm>
            <a:off x="8186760" y="69840"/>
            <a:ext cx="156996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Palatino Linotype"/>
              </a:rPr>
              <a:t>Минобрнауки Росс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0" name="Picture 18" descr="Russia_emblem"/>
          <p:cNvPicPr/>
          <p:nvPr/>
        </p:nvPicPr>
        <p:blipFill>
          <a:blip r:embed="rId1"/>
          <a:stretch/>
        </p:blipFill>
        <p:spPr>
          <a:xfrm>
            <a:off x="9693360" y="19044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1151" name="Text Box 11"/>
          <p:cNvSpPr/>
          <p:nvPr/>
        </p:nvSpPr>
        <p:spPr>
          <a:xfrm>
            <a:off x="0" y="109440"/>
            <a:ext cx="5380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Palatino Linotype"/>
              </a:rPr>
              <a:t>ФЦП Исследования и разработ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Заголовок 1"/>
          <p:cNvSpPr/>
          <p:nvPr/>
        </p:nvSpPr>
        <p:spPr>
          <a:xfrm>
            <a:off x="274680" y="2576520"/>
            <a:ext cx="502920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algn="ctr"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1" lang="ru-RU" sz="1800" spc="-1" strike="noStrike">
                <a:solidFill>
                  <a:srgbClr val="234271"/>
                </a:solidFill>
                <a:latin typeface="Calibri"/>
              </a:rPr>
              <a:t>Исполнители проектов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Прямоугольник 1"/>
          <p:cNvSpPr/>
          <p:nvPr/>
        </p:nvSpPr>
        <p:spPr>
          <a:xfrm>
            <a:off x="808200" y="650880"/>
            <a:ext cx="823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Итоги реализации ФЦП на 17 сентября 2013 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Номер слайда 5"/>
          <p:cNvSpPr/>
          <p:nvPr/>
        </p:nvSpPr>
        <p:spPr>
          <a:xfrm>
            <a:off x="3932280" y="7118280"/>
            <a:ext cx="21337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C5D0B-DF53-4C2C-BC79-9470ACB3831D}" type="slidenum">
              <a:rPr b="1" lang="ru-RU" sz="1800" spc="-1" strike="noStrike">
                <a:solidFill>
                  <a:srgbClr val="002060"/>
                </a:solidFill>
                <a:latin typeface="Palatino Linotype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5" name="Picture 11" descr=""/>
          <p:cNvPicPr/>
          <p:nvPr/>
        </p:nvPicPr>
        <p:blipFill>
          <a:blip r:embed="rId2"/>
          <a:stretch/>
        </p:blipFill>
        <p:spPr>
          <a:xfrm>
            <a:off x="4770360" y="1204920"/>
            <a:ext cx="4667400" cy="32670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Text Box 7"/>
          <p:cNvSpPr/>
          <p:nvPr/>
        </p:nvSpPr>
        <p:spPr>
          <a:xfrm>
            <a:off x="338040" y="747720"/>
            <a:ext cx="9126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algn="ctr"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Arial"/>
              </a:rPr>
              <a:t>Ключевые инициативы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TextBox 11"/>
          <p:cNvSpPr/>
          <p:nvPr/>
        </p:nvSpPr>
        <p:spPr>
          <a:xfrm>
            <a:off x="3957480" y="4481640"/>
            <a:ext cx="6094440" cy="10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379440" indent="-379440"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Результаты исследований будут использоваться в других ФЦП и востребованы в отраслях экономи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Номер слайда 5"/>
          <p:cNvSpPr/>
          <p:nvPr/>
        </p:nvSpPr>
        <p:spPr>
          <a:xfrm>
            <a:off x="3835440" y="7074000"/>
            <a:ext cx="2131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36850-6504-46FE-99F4-6E91F1BC1858}" type="slidenum">
              <a:rPr b="1" lang="ru-RU" sz="1800" spc="-1" strike="noStrike">
                <a:solidFill>
                  <a:srgbClr val="002060"/>
                </a:solidFill>
                <a:latin typeface="Palatino Linotype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Text Box 11"/>
          <p:cNvSpPr/>
          <p:nvPr/>
        </p:nvSpPr>
        <p:spPr>
          <a:xfrm>
            <a:off x="0" y="109440"/>
            <a:ext cx="5380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Palatino Linotype"/>
              </a:rPr>
              <a:t>ФЦП Исследования и разработк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TextBox 11"/>
          <p:cNvSpPr/>
          <p:nvPr/>
        </p:nvSpPr>
        <p:spPr>
          <a:xfrm>
            <a:off x="3932280" y="1662120"/>
            <a:ext cx="609444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379440" indent="-379440"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Переход к работе с наиболее успешными научными коллектив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TextBox 11"/>
          <p:cNvSpPr/>
          <p:nvPr/>
        </p:nvSpPr>
        <p:spPr>
          <a:xfrm>
            <a:off x="3943440" y="3186000"/>
            <a:ext cx="609444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379440" indent="-379440"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В центре внимания – научная сторона проекта НИ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TextBox 11"/>
          <p:cNvSpPr/>
          <p:nvPr/>
        </p:nvSpPr>
        <p:spPr>
          <a:xfrm>
            <a:off x="122400" y="1681200"/>
            <a:ext cx="38862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379440" indent="-379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1. Адресность финансир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TextBox 11"/>
          <p:cNvSpPr/>
          <p:nvPr/>
        </p:nvSpPr>
        <p:spPr>
          <a:xfrm>
            <a:off x="111240" y="3110040"/>
            <a:ext cx="358128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379440" indent="-379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2. Переход к грантовому финансировани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TextBox 11"/>
          <p:cNvSpPr/>
          <p:nvPr/>
        </p:nvSpPr>
        <p:spPr>
          <a:xfrm>
            <a:off x="198360" y="4481640"/>
            <a:ext cx="388620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379440" indent="-379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3. Контроль достижения результа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Прямоугольник 6"/>
          <p:cNvSpPr/>
          <p:nvPr/>
        </p:nvSpPr>
        <p:spPr>
          <a:xfrm>
            <a:off x="358920" y="5548320"/>
            <a:ext cx="921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Программа вместе с другими механизмами грантовой поддержки образуют единую грантовую систему, обеспечивающую исследователям на любом этапе научной карьеры возможности доступа к финансированию научной деятель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Text Box 11"/>
          <p:cNvSpPr/>
          <p:nvPr/>
        </p:nvSpPr>
        <p:spPr>
          <a:xfrm>
            <a:off x="8186760" y="69840"/>
            <a:ext cx="156996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Palatino Linotype"/>
              </a:rPr>
              <a:t>Минобрнауки Росс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7" name="Picture 18" descr="Russia_emblem"/>
          <p:cNvPicPr/>
          <p:nvPr/>
        </p:nvPicPr>
        <p:blipFill>
          <a:blip r:embed="rId1"/>
          <a:stretch/>
        </p:blipFill>
        <p:spPr>
          <a:xfrm>
            <a:off x="9693360" y="190440"/>
            <a:ext cx="380880" cy="3812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Text Box 11"/>
          <p:cNvSpPr/>
          <p:nvPr/>
        </p:nvSpPr>
        <p:spPr>
          <a:xfrm>
            <a:off x="8199360" y="93600"/>
            <a:ext cx="156996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Palatino Linotype"/>
              </a:rPr>
              <a:t>Минобрнауки Росс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9" name="Picture 18" descr="Russia_emblem"/>
          <p:cNvPicPr/>
          <p:nvPr/>
        </p:nvPicPr>
        <p:blipFill>
          <a:blip r:embed="rId1"/>
          <a:stretch/>
        </p:blipFill>
        <p:spPr>
          <a:xfrm>
            <a:off x="9693360" y="19512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1170" name="Номер слайда 5"/>
          <p:cNvSpPr/>
          <p:nvPr/>
        </p:nvSpPr>
        <p:spPr>
          <a:xfrm>
            <a:off x="3932280" y="7091280"/>
            <a:ext cx="21337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E6A79-CB0D-4F9A-9DBE-E8FE9D0B9375}" type="slidenum">
              <a:rPr b="1" lang="ru-RU" sz="1800" spc="-1" strike="noStrike">
                <a:solidFill>
                  <a:srgbClr val="002060"/>
                </a:solidFill>
                <a:latin typeface="Palatino Linotype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Прямоугольник 3"/>
          <p:cNvSpPr/>
          <p:nvPr/>
        </p:nvSpPr>
        <p:spPr>
          <a:xfrm>
            <a:off x="655560" y="1017720"/>
            <a:ext cx="2590920" cy="326880"/>
          </a:xfrm>
          <a:prstGeom prst="rect">
            <a:avLst/>
          </a:prstGeom>
          <a:solidFill>
            <a:srgbClr val="dfe4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Цель Программы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Прямоугольник 12"/>
          <p:cNvSpPr/>
          <p:nvPr/>
        </p:nvSpPr>
        <p:spPr>
          <a:xfrm>
            <a:off x="655560" y="2657520"/>
            <a:ext cx="3051360" cy="328680"/>
          </a:xfrm>
          <a:prstGeom prst="rect">
            <a:avLst/>
          </a:prstGeom>
          <a:solidFill>
            <a:srgbClr val="dfe4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Задачи Программы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Прямоугольник 25"/>
          <p:cNvSpPr/>
          <p:nvPr/>
        </p:nvSpPr>
        <p:spPr>
          <a:xfrm>
            <a:off x="655560" y="5259240"/>
            <a:ext cx="3733920" cy="498600"/>
          </a:xfrm>
          <a:prstGeom prst="rect">
            <a:avLst/>
          </a:prstGeom>
          <a:solidFill>
            <a:srgbClr val="dfe4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Объемы и источники финансирования  Программы, млн. рублей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Прямоугольник 1"/>
          <p:cNvSpPr/>
          <p:nvPr/>
        </p:nvSpPr>
        <p:spPr>
          <a:xfrm>
            <a:off x="2789280" y="1509840"/>
            <a:ext cx="64468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формирование конкурентоспособного и эффективно функционирующего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сектора прикладных исследований и разработо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Прямоугольник 31"/>
          <p:cNvSpPr/>
          <p:nvPr/>
        </p:nvSpPr>
        <p:spPr>
          <a:xfrm>
            <a:off x="2941560" y="3186000"/>
            <a:ext cx="6294600" cy="15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1. Формирование опережающего научно-технологического задела межотраслевой направленности по приоритетам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2. Обеспечение системного планирования и координации исследований и разработок (ИиР)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3. Интеграция российского сектора ИиР в глобальную международную инновационную систему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4. Повышение результативности сектора ИиР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Text Box 11"/>
          <p:cNvSpPr/>
          <p:nvPr/>
        </p:nvSpPr>
        <p:spPr>
          <a:xfrm>
            <a:off x="4511520" y="528480"/>
            <a:ext cx="43815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Calibri"/>
              </a:rPr>
              <a:t>ФЦП Исследования и разработки 2014-202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Rectangle 25"/>
          <p:cNvSpPr/>
          <p:nvPr/>
        </p:nvSpPr>
        <p:spPr>
          <a:xfrm>
            <a:off x="2941560" y="5803920"/>
            <a:ext cx="62946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Всего за 2014 - 2020 годы –                                        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9 023,77 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в том числе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средства федерального бюджета –                          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02 228,77</a:t>
            </a: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средства внебюджетных источников –                      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36 795,00 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Rectangle 15"/>
          <p:cNvSpPr/>
          <p:nvPr/>
        </p:nvSpPr>
        <p:spPr>
          <a:xfrm>
            <a:off x="569880" y="671400"/>
            <a:ext cx="87631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algn="ctr"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Бюджетное финансирование блоко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ФЦП «Исследования и разработки»  (млрд. руб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Text Box 11"/>
          <p:cNvSpPr/>
          <p:nvPr/>
        </p:nvSpPr>
        <p:spPr>
          <a:xfrm>
            <a:off x="8202600" y="109440"/>
            <a:ext cx="156996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Palatino Linotype"/>
              </a:rPr>
              <a:t>Минобрнауки Росс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0" name="Picture 18" descr="Russia_emblem"/>
          <p:cNvPicPr/>
          <p:nvPr/>
        </p:nvPicPr>
        <p:blipFill>
          <a:blip r:embed="rId1"/>
          <a:stretch/>
        </p:blipFill>
        <p:spPr>
          <a:xfrm>
            <a:off x="9713880" y="204840"/>
            <a:ext cx="379440" cy="380880"/>
          </a:xfrm>
          <a:prstGeom prst="rect">
            <a:avLst/>
          </a:prstGeom>
          <a:ln w="0">
            <a:noFill/>
          </a:ln>
        </p:spPr>
      </p:pic>
      <p:sp>
        <p:nvSpPr>
          <p:cNvPr id="1181" name="Номер слайда 5"/>
          <p:cNvSpPr/>
          <p:nvPr/>
        </p:nvSpPr>
        <p:spPr>
          <a:xfrm>
            <a:off x="3884760" y="7134120"/>
            <a:ext cx="21333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838C2-0111-455F-9E61-C7B8EE3CE85B}" type="slidenum">
              <a:rPr b="1" lang="ru-RU" sz="1800" spc="-1" strike="noStrike">
                <a:solidFill>
                  <a:srgbClr val="002060"/>
                </a:solidFill>
                <a:latin typeface="Palatino Linotype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Text Box 11"/>
          <p:cNvSpPr/>
          <p:nvPr/>
        </p:nvSpPr>
        <p:spPr>
          <a:xfrm>
            <a:off x="0" y="109440"/>
            <a:ext cx="469440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Palatino Linotype"/>
              </a:rPr>
              <a:t>ФЦП Исследования и разработки 2014-202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83" name=""/>
          <p:cNvGraphicFramePr/>
          <p:nvPr/>
        </p:nvGraphicFramePr>
        <p:xfrm>
          <a:off x="198360" y="1677960"/>
          <a:ext cx="9753840" cy="5316480"/>
        </p:xfrm>
        <a:graphic>
          <a:graphicData uri="http://schemas.openxmlformats.org/drawingml/2006/table">
            <a:tbl>
              <a:tblPr/>
              <a:tblGrid>
                <a:gridCol w="2997360"/>
                <a:gridCol w="792000"/>
                <a:gridCol w="790560"/>
                <a:gridCol w="790560"/>
                <a:gridCol w="792360"/>
                <a:gridCol w="790560"/>
                <a:gridCol w="790560"/>
                <a:gridCol w="792000"/>
                <a:gridCol w="1217880"/>
              </a:tblGrid>
              <a:tr h="7491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Блок Програм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4320">
                      <a:solidFill>
                        <a:srgbClr val="2f5897"/>
                      </a:solidFill>
                    </a:lnL>
                    <a:lnR w="4320">
                      <a:solidFill>
                        <a:srgbClr val="2f5897"/>
                      </a:solidFill>
                    </a:lnR>
                    <a:lnT w="4320">
                      <a:solidFill>
                        <a:srgbClr val="2f5897"/>
                      </a:solidFill>
                    </a:lnT>
                    <a:lnB w="4320">
                      <a:solidFill>
                        <a:srgbClr val="2f5897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4320">
                      <a:solidFill>
                        <a:srgbClr val="2f5897"/>
                      </a:solidFill>
                    </a:lnL>
                    <a:lnR w="4320">
                      <a:solidFill>
                        <a:srgbClr val="2f5897"/>
                      </a:solidFill>
                    </a:lnR>
                    <a:lnT w="4320">
                      <a:solidFill>
                        <a:srgbClr val="2f5897"/>
                      </a:solidFill>
                    </a:lnT>
                    <a:lnB w="4320">
                      <a:solidFill>
                        <a:srgbClr val="2f5897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4320">
                      <a:solidFill>
                        <a:srgbClr val="2f5897"/>
                      </a:solidFill>
                    </a:lnL>
                    <a:lnR w="4320">
                      <a:solidFill>
                        <a:srgbClr val="2f5897"/>
                      </a:solidFill>
                    </a:lnR>
                    <a:lnT w="4320">
                      <a:solidFill>
                        <a:srgbClr val="2f5897"/>
                      </a:solidFill>
                    </a:lnT>
                    <a:lnB w="4320">
                      <a:solidFill>
                        <a:srgbClr val="2f5897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4320">
                      <a:solidFill>
                        <a:srgbClr val="2f5897"/>
                      </a:solidFill>
                    </a:lnL>
                    <a:lnR w="4320">
                      <a:solidFill>
                        <a:srgbClr val="2f5897"/>
                      </a:solidFill>
                    </a:lnR>
                    <a:lnT w="4320">
                      <a:solidFill>
                        <a:srgbClr val="2f5897"/>
                      </a:solidFill>
                    </a:lnT>
                    <a:lnB w="4320">
                      <a:solidFill>
                        <a:srgbClr val="2f5897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4320">
                      <a:solidFill>
                        <a:srgbClr val="2f5897"/>
                      </a:solidFill>
                    </a:lnL>
                    <a:lnR w="4320">
                      <a:solidFill>
                        <a:srgbClr val="2f5897"/>
                      </a:solidFill>
                    </a:lnR>
                    <a:lnT w="4320">
                      <a:solidFill>
                        <a:srgbClr val="2f5897"/>
                      </a:solidFill>
                    </a:lnT>
                    <a:lnB w="4320">
                      <a:solidFill>
                        <a:srgbClr val="2f5897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4320">
                      <a:solidFill>
                        <a:srgbClr val="2f5897"/>
                      </a:solidFill>
                    </a:lnL>
                    <a:lnR w="4320">
                      <a:solidFill>
                        <a:srgbClr val="2f5897"/>
                      </a:solidFill>
                    </a:lnR>
                    <a:lnT w="4320">
                      <a:solidFill>
                        <a:srgbClr val="2f5897"/>
                      </a:solidFill>
                    </a:lnT>
                    <a:lnB w="4320">
                      <a:solidFill>
                        <a:srgbClr val="2f5897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0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4320">
                      <a:solidFill>
                        <a:srgbClr val="2f5897"/>
                      </a:solidFill>
                    </a:lnL>
                    <a:lnR w="4320">
                      <a:solidFill>
                        <a:srgbClr val="2f5897"/>
                      </a:solidFill>
                    </a:lnR>
                    <a:lnT w="4320">
                      <a:solidFill>
                        <a:srgbClr val="2f5897"/>
                      </a:solidFill>
                    </a:lnT>
                    <a:lnB w="4320">
                      <a:solidFill>
                        <a:srgbClr val="2f5897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4320">
                      <a:solidFill>
                        <a:srgbClr val="2f5897"/>
                      </a:solidFill>
                    </a:lnL>
                    <a:lnR w="4320">
                      <a:solidFill>
                        <a:srgbClr val="2f5897"/>
                      </a:solidFill>
                    </a:lnR>
                    <a:lnT w="4320">
                      <a:solidFill>
                        <a:srgbClr val="2f5897"/>
                      </a:solidFill>
                    </a:lnT>
                    <a:lnB w="4320">
                      <a:solidFill>
                        <a:srgbClr val="2f5897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Всего 2014-2020 г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4320">
                      <a:solidFill>
                        <a:srgbClr val="2f5897"/>
                      </a:solidFill>
                    </a:lnL>
                    <a:lnR w="4320">
                      <a:solidFill>
                        <a:srgbClr val="2f5897"/>
                      </a:solidFill>
                    </a:lnR>
                    <a:lnT w="4320">
                      <a:solidFill>
                        <a:srgbClr val="2f5897"/>
                      </a:solidFill>
                    </a:lnT>
                    <a:lnB w="4320">
                      <a:solidFill>
                        <a:srgbClr val="2f5897"/>
                      </a:solidFill>
                    </a:lnB>
                    <a:noFill/>
                  </a:tcPr>
                </a:tc>
              </a:tr>
              <a:tr h="1155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Блок 1. Проведение исследований, направленных на формирование опережающего научно-технологического заде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2f5897"/>
                      </a:solidFill>
                    </a:lnL>
                    <a:lnR w="4320">
                      <a:solidFill>
                        <a:srgbClr val="2f5897"/>
                      </a:solidFill>
                    </a:lnR>
                    <a:lnT w="4320">
                      <a:solidFill>
                        <a:srgbClr val="2f5897"/>
                      </a:solidFill>
                    </a:lnT>
                    <a:lnB w="4320">
                      <a:solidFill>
                        <a:srgbClr val="2f5897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2,9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2f5897"/>
                      </a:solidFill>
                    </a:lnL>
                    <a:lnR w="4320">
                      <a:solidFill>
                        <a:srgbClr val="2f5897"/>
                      </a:solidFill>
                    </a:lnR>
                    <a:lnT w="4320">
                      <a:solidFill>
                        <a:srgbClr val="2f5897"/>
                      </a:solidFill>
                    </a:lnT>
                    <a:lnB w="4320">
                      <a:solidFill>
                        <a:srgbClr val="2f5897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4,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2f5897"/>
                      </a:solidFill>
                    </a:lnL>
                    <a:lnR w="4320">
                      <a:solidFill>
                        <a:srgbClr val="2f5897"/>
                      </a:solidFill>
                    </a:lnR>
                    <a:lnT w="4320">
                      <a:solidFill>
                        <a:srgbClr val="2f5897"/>
                      </a:solidFill>
                    </a:lnT>
                    <a:lnB w="4320">
                      <a:solidFill>
                        <a:srgbClr val="2f5897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6,6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2f5897"/>
                      </a:solidFill>
                    </a:lnL>
                    <a:lnR w="4320">
                      <a:solidFill>
                        <a:srgbClr val="2f5897"/>
                      </a:solidFill>
                    </a:lnR>
                    <a:lnT w="4320">
                      <a:solidFill>
                        <a:srgbClr val="2f5897"/>
                      </a:solidFill>
                    </a:lnT>
                    <a:lnB w="4320">
                      <a:solidFill>
                        <a:srgbClr val="2f5897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8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2f5897"/>
                      </a:solidFill>
                    </a:lnL>
                    <a:lnR w="4320">
                      <a:solidFill>
                        <a:srgbClr val="2f5897"/>
                      </a:solidFill>
                    </a:lnR>
                    <a:lnT w="4320">
                      <a:solidFill>
                        <a:srgbClr val="2f5897"/>
                      </a:solidFill>
                    </a:lnT>
                    <a:lnB w="4320">
                      <a:solidFill>
                        <a:srgbClr val="2f5897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8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2f5897"/>
                      </a:solidFill>
                    </a:lnL>
                    <a:lnR w="4320">
                      <a:solidFill>
                        <a:srgbClr val="2f5897"/>
                      </a:solidFill>
                    </a:lnR>
                    <a:lnT w="4320">
                      <a:solidFill>
                        <a:srgbClr val="2f5897"/>
                      </a:solidFill>
                    </a:lnT>
                    <a:lnB w="4320">
                      <a:solidFill>
                        <a:srgbClr val="2f5897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8,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2f5897"/>
                      </a:solidFill>
                    </a:lnL>
                    <a:lnR w="4320">
                      <a:solidFill>
                        <a:srgbClr val="2f5897"/>
                      </a:solidFill>
                    </a:lnR>
                    <a:lnT w="4320">
                      <a:solidFill>
                        <a:srgbClr val="2f5897"/>
                      </a:solidFill>
                    </a:lnT>
                    <a:lnB w="4320">
                      <a:solidFill>
                        <a:srgbClr val="2f5897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9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2f5897"/>
                      </a:solidFill>
                    </a:lnL>
                    <a:lnR w="4320">
                      <a:solidFill>
                        <a:srgbClr val="2f5897"/>
                      </a:solidFill>
                    </a:lnR>
                    <a:lnT w="4320">
                      <a:solidFill>
                        <a:srgbClr val="2f5897"/>
                      </a:solidFill>
                    </a:lnT>
                    <a:lnB w="4320">
                      <a:solidFill>
                        <a:srgbClr val="2f5897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18,8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2f5897"/>
                      </a:solidFill>
                    </a:lnL>
                    <a:lnR w="4320">
                      <a:solidFill>
                        <a:srgbClr val="2f5897"/>
                      </a:solidFill>
                    </a:lnR>
                    <a:lnT w="4320">
                      <a:solidFill>
                        <a:srgbClr val="2f5897"/>
                      </a:solidFill>
                    </a:lnT>
                    <a:lnB w="4320">
                      <a:solidFill>
                        <a:srgbClr val="2f5897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Блок 2. Международное сотруднич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2f5897"/>
                      </a:solidFill>
                    </a:lnL>
                    <a:lnR w="4320">
                      <a:solidFill>
                        <a:srgbClr val="2f5897"/>
                      </a:solidFill>
                    </a:lnR>
                    <a:lnT w="4320">
                      <a:solidFill>
                        <a:srgbClr val="2f5897"/>
                      </a:solidFill>
                    </a:lnT>
                    <a:lnB w="4320">
                      <a:solidFill>
                        <a:srgbClr val="2f5897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,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2f5897"/>
                      </a:solidFill>
                    </a:lnL>
                    <a:lnR w="4320">
                      <a:solidFill>
                        <a:srgbClr val="2f5897"/>
                      </a:solidFill>
                    </a:lnR>
                    <a:lnT w="4320">
                      <a:solidFill>
                        <a:srgbClr val="2f5897"/>
                      </a:solidFill>
                    </a:lnT>
                    <a:lnB w="4320">
                      <a:solidFill>
                        <a:srgbClr val="2f5897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,8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2f5897"/>
                      </a:solidFill>
                    </a:lnL>
                    <a:lnR w="4320">
                      <a:solidFill>
                        <a:srgbClr val="2f5897"/>
                      </a:solidFill>
                    </a:lnR>
                    <a:lnT w="4320">
                      <a:solidFill>
                        <a:srgbClr val="2f5897"/>
                      </a:solidFill>
                    </a:lnT>
                    <a:lnB w="4320">
                      <a:solidFill>
                        <a:srgbClr val="2f5897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2f5897"/>
                      </a:solidFill>
                    </a:lnL>
                    <a:lnR w="4320">
                      <a:solidFill>
                        <a:srgbClr val="2f5897"/>
                      </a:solidFill>
                    </a:lnR>
                    <a:lnT w="4320">
                      <a:solidFill>
                        <a:srgbClr val="2f5897"/>
                      </a:solidFill>
                    </a:lnT>
                    <a:lnB w="4320">
                      <a:solidFill>
                        <a:srgbClr val="2f5897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,1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2f5897"/>
                      </a:solidFill>
                    </a:lnL>
                    <a:lnR w="4320">
                      <a:solidFill>
                        <a:srgbClr val="2f5897"/>
                      </a:solidFill>
                    </a:lnR>
                    <a:lnT w="4320">
                      <a:solidFill>
                        <a:srgbClr val="2f5897"/>
                      </a:solidFill>
                    </a:lnT>
                    <a:lnB w="4320">
                      <a:solidFill>
                        <a:srgbClr val="2f5897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,1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2f5897"/>
                      </a:solidFill>
                    </a:lnL>
                    <a:lnR w="4320">
                      <a:solidFill>
                        <a:srgbClr val="2f5897"/>
                      </a:solidFill>
                    </a:lnR>
                    <a:lnT w="4320">
                      <a:solidFill>
                        <a:srgbClr val="2f5897"/>
                      </a:solidFill>
                    </a:lnT>
                    <a:lnB w="4320">
                      <a:solidFill>
                        <a:srgbClr val="2f5897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,2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2f5897"/>
                      </a:solidFill>
                    </a:lnL>
                    <a:lnR w="4320">
                      <a:solidFill>
                        <a:srgbClr val="2f5897"/>
                      </a:solidFill>
                    </a:lnR>
                    <a:lnT w="4320">
                      <a:solidFill>
                        <a:srgbClr val="2f5897"/>
                      </a:solidFill>
                    </a:lnT>
                    <a:lnB w="4320">
                      <a:solidFill>
                        <a:srgbClr val="2f5897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,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2f5897"/>
                      </a:solidFill>
                    </a:lnL>
                    <a:lnR w="4320">
                      <a:solidFill>
                        <a:srgbClr val="2f5897"/>
                      </a:solidFill>
                    </a:lnR>
                    <a:lnT w="4320">
                      <a:solidFill>
                        <a:srgbClr val="2f5897"/>
                      </a:solidFill>
                    </a:lnT>
                    <a:lnB w="4320">
                      <a:solidFill>
                        <a:srgbClr val="2f5897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4,3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2f5897"/>
                      </a:solidFill>
                    </a:lnL>
                    <a:lnR w="4320">
                      <a:solidFill>
                        <a:srgbClr val="2f5897"/>
                      </a:solidFill>
                    </a:lnR>
                    <a:lnT w="4320">
                      <a:solidFill>
                        <a:srgbClr val="2f5897"/>
                      </a:solidFill>
                    </a:lnT>
                    <a:lnB w="4320">
                      <a:solidFill>
                        <a:srgbClr val="2f5897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Блок 3. Инфраструктура исследований и разрабо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2f5897"/>
                      </a:solidFill>
                    </a:lnL>
                    <a:lnR w="4320">
                      <a:solidFill>
                        <a:srgbClr val="2f5897"/>
                      </a:solidFill>
                    </a:lnR>
                    <a:lnT w="4320">
                      <a:solidFill>
                        <a:srgbClr val="2f5897"/>
                      </a:solidFill>
                    </a:lnT>
                    <a:lnB w="4320">
                      <a:solidFill>
                        <a:srgbClr val="2f5897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3,9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2f5897"/>
                      </a:solidFill>
                    </a:lnL>
                    <a:lnR w="4320">
                      <a:solidFill>
                        <a:srgbClr val="2f5897"/>
                      </a:solidFill>
                    </a:lnR>
                    <a:lnT w="4320">
                      <a:solidFill>
                        <a:srgbClr val="2f5897"/>
                      </a:solidFill>
                    </a:lnT>
                    <a:lnB w="4320">
                      <a:solidFill>
                        <a:srgbClr val="2f5897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4,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2f5897"/>
                      </a:solidFill>
                    </a:lnL>
                    <a:lnR w="4320">
                      <a:solidFill>
                        <a:srgbClr val="2f5897"/>
                      </a:solidFill>
                    </a:lnR>
                    <a:lnT w="4320">
                      <a:solidFill>
                        <a:srgbClr val="2f5897"/>
                      </a:solidFill>
                    </a:lnT>
                    <a:lnB w="4320">
                      <a:solidFill>
                        <a:srgbClr val="2f5897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4,1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2f5897"/>
                      </a:solidFill>
                    </a:lnL>
                    <a:lnR w="4320">
                      <a:solidFill>
                        <a:srgbClr val="2f5897"/>
                      </a:solidFill>
                    </a:lnR>
                    <a:lnT w="4320">
                      <a:solidFill>
                        <a:srgbClr val="2f5897"/>
                      </a:solidFill>
                    </a:lnT>
                    <a:lnB w="4320">
                      <a:solidFill>
                        <a:srgbClr val="2f5897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4,3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2f5897"/>
                      </a:solidFill>
                    </a:lnL>
                    <a:lnR w="4320">
                      <a:solidFill>
                        <a:srgbClr val="2f5897"/>
                      </a:solidFill>
                    </a:lnR>
                    <a:lnT w="4320">
                      <a:solidFill>
                        <a:srgbClr val="2f5897"/>
                      </a:solidFill>
                    </a:lnT>
                    <a:lnB w="4320">
                      <a:solidFill>
                        <a:srgbClr val="2f5897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4,7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2f5897"/>
                      </a:solidFill>
                    </a:lnL>
                    <a:lnR w="4320">
                      <a:solidFill>
                        <a:srgbClr val="2f5897"/>
                      </a:solidFill>
                    </a:lnR>
                    <a:lnT w="4320">
                      <a:solidFill>
                        <a:srgbClr val="2f5897"/>
                      </a:solidFill>
                    </a:lnT>
                    <a:lnB w="4320">
                      <a:solidFill>
                        <a:srgbClr val="2f5897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4,8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2f5897"/>
                      </a:solidFill>
                    </a:lnL>
                    <a:lnR w="4320">
                      <a:solidFill>
                        <a:srgbClr val="2f5897"/>
                      </a:solidFill>
                    </a:lnR>
                    <a:lnT w="4320">
                      <a:solidFill>
                        <a:srgbClr val="2f5897"/>
                      </a:solidFill>
                    </a:lnT>
                    <a:lnB w="4320">
                      <a:solidFill>
                        <a:srgbClr val="2f5897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5,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2f5897"/>
                      </a:solidFill>
                    </a:lnL>
                    <a:lnR w="4320">
                      <a:solidFill>
                        <a:srgbClr val="2f5897"/>
                      </a:solidFill>
                    </a:lnR>
                    <a:lnT w="4320">
                      <a:solidFill>
                        <a:srgbClr val="2f5897"/>
                      </a:solidFill>
                    </a:lnT>
                    <a:lnB w="4320">
                      <a:solidFill>
                        <a:srgbClr val="2f5897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31,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2f5897"/>
                      </a:solidFill>
                    </a:lnL>
                    <a:lnR w="4320">
                      <a:solidFill>
                        <a:srgbClr val="2f5897"/>
                      </a:solidFill>
                    </a:lnR>
                    <a:lnT w="4320">
                      <a:solidFill>
                        <a:srgbClr val="2f5897"/>
                      </a:solidFill>
                    </a:lnT>
                    <a:lnB w="4320">
                      <a:solidFill>
                        <a:srgbClr val="2f5897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Блок 4. Материально-техническая ба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2f5897"/>
                      </a:solidFill>
                    </a:lnL>
                    <a:lnR w="4320">
                      <a:solidFill>
                        <a:srgbClr val="2f5897"/>
                      </a:solidFill>
                    </a:lnR>
                    <a:lnT w="4320">
                      <a:solidFill>
                        <a:srgbClr val="2f5897"/>
                      </a:solidFill>
                    </a:lnT>
                    <a:lnB w="4320">
                      <a:solidFill>
                        <a:srgbClr val="2f5897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4,4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2f5897"/>
                      </a:solidFill>
                    </a:lnL>
                    <a:lnR w="4320">
                      <a:solidFill>
                        <a:srgbClr val="2f5897"/>
                      </a:solidFill>
                    </a:lnR>
                    <a:lnT w="4320">
                      <a:solidFill>
                        <a:srgbClr val="2f5897"/>
                      </a:solidFill>
                    </a:lnT>
                    <a:lnB w="4320">
                      <a:solidFill>
                        <a:srgbClr val="2f5897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3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2f5897"/>
                      </a:solidFill>
                    </a:lnL>
                    <a:lnR w="4320">
                      <a:solidFill>
                        <a:srgbClr val="2f5897"/>
                      </a:solidFill>
                    </a:lnR>
                    <a:lnT w="4320">
                      <a:solidFill>
                        <a:srgbClr val="2f5897"/>
                      </a:solidFill>
                    </a:lnT>
                    <a:lnB w="4320">
                      <a:solidFill>
                        <a:srgbClr val="2f5897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3,0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2f5897"/>
                      </a:solidFill>
                    </a:lnL>
                    <a:lnR w="4320">
                      <a:solidFill>
                        <a:srgbClr val="2f5897"/>
                      </a:solidFill>
                    </a:lnR>
                    <a:lnT w="4320">
                      <a:solidFill>
                        <a:srgbClr val="2f5897"/>
                      </a:solidFill>
                    </a:lnT>
                    <a:lnB w="4320">
                      <a:solidFill>
                        <a:srgbClr val="2f5897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3,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2f5897"/>
                      </a:solidFill>
                    </a:lnL>
                    <a:lnR w="4320">
                      <a:solidFill>
                        <a:srgbClr val="2f5897"/>
                      </a:solidFill>
                    </a:lnR>
                    <a:lnT w="4320">
                      <a:solidFill>
                        <a:srgbClr val="2f5897"/>
                      </a:solidFill>
                    </a:lnT>
                    <a:lnB w="4320">
                      <a:solidFill>
                        <a:srgbClr val="2f5897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4,1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2f5897"/>
                      </a:solidFill>
                    </a:lnL>
                    <a:lnR w="4320">
                      <a:solidFill>
                        <a:srgbClr val="2f5897"/>
                      </a:solidFill>
                    </a:lnR>
                    <a:lnT w="4320">
                      <a:solidFill>
                        <a:srgbClr val="2f5897"/>
                      </a:solidFill>
                    </a:lnT>
                    <a:lnB w="4320">
                      <a:solidFill>
                        <a:srgbClr val="2f5897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5,2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2f5897"/>
                      </a:solidFill>
                    </a:lnL>
                    <a:lnR w="4320">
                      <a:solidFill>
                        <a:srgbClr val="2f5897"/>
                      </a:solidFill>
                    </a:lnR>
                    <a:lnT w="4320">
                      <a:solidFill>
                        <a:srgbClr val="2f5897"/>
                      </a:solidFill>
                    </a:lnT>
                    <a:lnB w="4320">
                      <a:solidFill>
                        <a:srgbClr val="2f5897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6,2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2f5897"/>
                      </a:solidFill>
                    </a:lnL>
                    <a:lnR w="4320">
                      <a:solidFill>
                        <a:srgbClr val="2f5897"/>
                      </a:solidFill>
                    </a:lnR>
                    <a:lnT w="4320">
                      <a:solidFill>
                        <a:srgbClr val="2f5897"/>
                      </a:solidFill>
                    </a:lnT>
                    <a:lnB w="4320">
                      <a:solidFill>
                        <a:srgbClr val="2f5897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9,6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2f5897"/>
                      </a:solidFill>
                    </a:lnL>
                    <a:lnR w="4320">
                      <a:solidFill>
                        <a:srgbClr val="2f5897"/>
                      </a:solidFill>
                    </a:lnR>
                    <a:lnT w="4320">
                      <a:solidFill>
                        <a:srgbClr val="2f5897"/>
                      </a:solidFill>
                    </a:lnT>
                    <a:lnB w="4320">
                      <a:solidFill>
                        <a:srgbClr val="2f5897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Блок 5. Управление реализацией Програм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2f5897"/>
                      </a:solidFill>
                    </a:lnL>
                    <a:lnR w="4320">
                      <a:solidFill>
                        <a:srgbClr val="2f5897"/>
                      </a:solidFill>
                    </a:lnR>
                    <a:lnT w="4320">
                      <a:solidFill>
                        <a:srgbClr val="2f5897"/>
                      </a:solidFill>
                    </a:lnT>
                    <a:lnB w="4320">
                      <a:solidFill>
                        <a:srgbClr val="2f5897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0,9</a:t>
                      </a: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2f5897"/>
                      </a:solidFill>
                    </a:lnL>
                    <a:lnR w="4320">
                      <a:solidFill>
                        <a:srgbClr val="2f5897"/>
                      </a:solidFill>
                    </a:lnR>
                    <a:lnT w="4320">
                      <a:solidFill>
                        <a:srgbClr val="2f5897"/>
                      </a:solidFill>
                    </a:lnT>
                    <a:lnB w="4320">
                      <a:solidFill>
                        <a:srgbClr val="2f5897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,0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2f5897"/>
                      </a:solidFill>
                    </a:lnL>
                    <a:lnR w="4320">
                      <a:solidFill>
                        <a:srgbClr val="2f5897"/>
                      </a:solidFill>
                    </a:lnR>
                    <a:lnT w="4320">
                      <a:solidFill>
                        <a:srgbClr val="2f5897"/>
                      </a:solidFill>
                    </a:lnT>
                    <a:lnB w="4320">
                      <a:solidFill>
                        <a:srgbClr val="2f5897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,0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2f5897"/>
                      </a:solidFill>
                    </a:lnL>
                    <a:lnR w="4320">
                      <a:solidFill>
                        <a:srgbClr val="2f5897"/>
                      </a:solidFill>
                    </a:lnR>
                    <a:lnT w="4320">
                      <a:solidFill>
                        <a:srgbClr val="2f5897"/>
                      </a:solidFill>
                    </a:lnT>
                    <a:lnB w="4320">
                      <a:solidFill>
                        <a:srgbClr val="2f5897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,1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2f5897"/>
                      </a:solidFill>
                    </a:lnL>
                    <a:lnR w="4320">
                      <a:solidFill>
                        <a:srgbClr val="2f5897"/>
                      </a:solidFill>
                    </a:lnR>
                    <a:lnT w="4320">
                      <a:solidFill>
                        <a:srgbClr val="2f5897"/>
                      </a:solidFill>
                    </a:lnT>
                    <a:lnB w="4320">
                      <a:solidFill>
                        <a:srgbClr val="2f5897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,2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2f5897"/>
                      </a:solidFill>
                    </a:lnL>
                    <a:lnR w="4320">
                      <a:solidFill>
                        <a:srgbClr val="2f5897"/>
                      </a:solidFill>
                    </a:lnR>
                    <a:lnT w="4320">
                      <a:solidFill>
                        <a:srgbClr val="2f5897"/>
                      </a:solidFill>
                    </a:lnT>
                    <a:lnB w="4320">
                      <a:solidFill>
                        <a:srgbClr val="2f5897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,2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2f5897"/>
                      </a:solidFill>
                    </a:lnL>
                    <a:lnR w="4320">
                      <a:solidFill>
                        <a:srgbClr val="2f5897"/>
                      </a:solidFill>
                    </a:lnR>
                    <a:lnT w="4320">
                      <a:solidFill>
                        <a:srgbClr val="2f5897"/>
                      </a:solidFill>
                    </a:lnT>
                    <a:lnB w="4320">
                      <a:solidFill>
                        <a:srgbClr val="2f5897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,3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2f5897"/>
                      </a:solidFill>
                    </a:lnL>
                    <a:lnR w="4320">
                      <a:solidFill>
                        <a:srgbClr val="2f5897"/>
                      </a:solidFill>
                    </a:lnR>
                    <a:lnT w="4320">
                      <a:solidFill>
                        <a:srgbClr val="2f5897"/>
                      </a:solidFill>
                    </a:lnT>
                    <a:lnB w="4320">
                      <a:solidFill>
                        <a:srgbClr val="2f5897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8,0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2f5897"/>
                      </a:solidFill>
                    </a:lnL>
                    <a:lnR w="4320">
                      <a:solidFill>
                        <a:srgbClr val="2f5897"/>
                      </a:solidFill>
                    </a:lnR>
                    <a:lnT w="4320">
                      <a:solidFill>
                        <a:srgbClr val="2f5897"/>
                      </a:solidFill>
                    </a:lnT>
                    <a:lnB w="4320">
                      <a:solidFill>
                        <a:srgbClr val="2f5897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Бюджетные средства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4320">
                      <a:solidFill>
                        <a:srgbClr val="2f5897"/>
                      </a:solidFill>
                    </a:lnL>
                    <a:lnR w="4320">
                      <a:solidFill>
                        <a:srgbClr val="2f5897"/>
                      </a:solidFill>
                    </a:lnR>
                    <a:lnT w="4320">
                      <a:solidFill>
                        <a:srgbClr val="2f5897"/>
                      </a:solidFill>
                    </a:lnT>
                    <a:lnB w="4320">
                      <a:solidFill>
                        <a:srgbClr val="2f5897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3,78</a:t>
                      </a: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2f5897"/>
                      </a:solidFill>
                    </a:lnL>
                    <a:lnR w="4320">
                      <a:solidFill>
                        <a:srgbClr val="2f5897"/>
                      </a:solidFill>
                    </a:lnR>
                    <a:lnT w="4320">
                      <a:solidFill>
                        <a:srgbClr val="2f5897"/>
                      </a:solidFill>
                    </a:lnT>
                    <a:lnB w="4320">
                      <a:solidFill>
                        <a:srgbClr val="2f5897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5,3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2f5897"/>
                      </a:solidFill>
                    </a:lnL>
                    <a:lnR w="4320">
                      <a:solidFill>
                        <a:srgbClr val="2f5897"/>
                      </a:solidFill>
                    </a:lnR>
                    <a:lnT w="4320">
                      <a:solidFill>
                        <a:srgbClr val="2f5897"/>
                      </a:solidFill>
                    </a:lnT>
                    <a:lnB w="4320">
                      <a:solidFill>
                        <a:srgbClr val="2f5897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6,9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2f5897"/>
                      </a:solidFill>
                    </a:lnL>
                    <a:lnR w="4320">
                      <a:solidFill>
                        <a:srgbClr val="2f5897"/>
                      </a:solidFill>
                    </a:lnR>
                    <a:lnT w="4320">
                      <a:solidFill>
                        <a:srgbClr val="2f5897"/>
                      </a:solidFill>
                    </a:lnT>
                    <a:lnB w="4320">
                      <a:solidFill>
                        <a:srgbClr val="2f5897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8,7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2f5897"/>
                      </a:solidFill>
                    </a:lnL>
                    <a:lnR w="4320">
                      <a:solidFill>
                        <a:srgbClr val="2f5897"/>
                      </a:solidFill>
                    </a:lnR>
                    <a:lnT w="4320">
                      <a:solidFill>
                        <a:srgbClr val="2f5897"/>
                      </a:solidFill>
                    </a:lnT>
                    <a:lnB w="4320">
                      <a:solidFill>
                        <a:srgbClr val="2f5897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30,7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2f5897"/>
                      </a:solidFill>
                    </a:lnL>
                    <a:lnR w="4320">
                      <a:solidFill>
                        <a:srgbClr val="2f5897"/>
                      </a:solidFill>
                    </a:lnR>
                    <a:lnT w="4320">
                      <a:solidFill>
                        <a:srgbClr val="2f5897"/>
                      </a:solidFill>
                    </a:lnT>
                    <a:lnB w="4320">
                      <a:solidFill>
                        <a:srgbClr val="2f5897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32,4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2f5897"/>
                      </a:solidFill>
                    </a:lnL>
                    <a:lnR w="4320">
                      <a:solidFill>
                        <a:srgbClr val="2f5897"/>
                      </a:solidFill>
                    </a:lnR>
                    <a:lnT w="4320">
                      <a:solidFill>
                        <a:srgbClr val="2f5897"/>
                      </a:solidFill>
                    </a:lnT>
                    <a:lnB w="4320">
                      <a:solidFill>
                        <a:srgbClr val="2f5897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34,1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2f5897"/>
                      </a:solidFill>
                    </a:lnL>
                    <a:lnR w="4320">
                      <a:solidFill>
                        <a:srgbClr val="2f5897"/>
                      </a:solidFill>
                    </a:lnR>
                    <a:lnT w="4320">
                      <a:solidFill>
                        <a:srgbClr val="2f5897"/>
                      </a:solidFill>
                    </a:lnT>
                    <a:lnB w="4320">
                      <a:solidFill>
                        <a:srgbClr val="2f5897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02,22</a:t>
                      </a: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2f5897"/>
                      </a:solidFill>
                    </a:lnL>
                    <a:lnR w="4320">
                      <a:solidFill>
                        <a:srgbClr val="2f5897"/>
                      </a:solidFill>
                    </a:lnR>
                    <a:lnT w="4320">
                      <a:solidFill>
                        <a:srgbClr val="2f5897"/>
                      </a:solidFill>
                    </a:lnT>
                    <a:lnB w="4320">
                      <a:solidFill>
                        <a:srgbClr val="2f5897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Внебюджетные сред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4320">
                      <a:solidFill>
                        <a:srgbClr val="2f5897"/>
                      </a:solidFill>
                    </a:lnL>
                    <a:lnR w="4320">
                      <a:solidFill>
                        <a:srgbClr val="2f5897"/>
                      </a:solidFill>
                    </a:lnR>
                    <a:lnT w="4320">
                      <a:solidFill>
                        <a:srgbClr val="2f5897"/>
                      </a:solidFill>
                    </a:lnT>
                    <a:lnB w="4320">
                      <a:solidFill>
                        <a:srgbClr val="2f5897"/>
                      </a:solidFill>
                    </a:lnB>
                    <a:solidFill>
                      <a:srgbClr val="e4e9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3,7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4320">
                      <a:solidFill>
                        <a:srgbClr val="2f5897"/>
                      </a:solidFill>
                    </a:lnL>
                    <a:lnR w="4320">
                      <a:solidFill>
                        <a:srgbClr val="2f5897"/>
                      </a:solidFill>
                    </a:lnR>
                    <a:lnT w="4320">
                      <a:solidFill>
                        <a:srgbClr val="2f5897"/>
                      </a:solidFill>
                    </a:lnT>
                    <a:lnB w="4320">
                      <a:solidFill>
                        <a:srgbClr val="2f5897"/>
                      </a:solidFill>
                    </a:lnB>
                    <a:solidFill>
                      <a:srgbClr val="e4e9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4,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4320">
                      <a:solidFill>
                        <a:srgbClr val="2f5897"/>
                      </a:solidFill>
                    </a:lnL>
                    <a:lnR w="4320">
                      <a:solidFill>
                        <a:srgbClr val="2f5897"/>
                      </a:solidFill>
                    </a:lnR>
                    <a:lnT w="4320">
                      <a:solidFill>
                        <a:srgbClr val="2f5897"/>
                      </a:solidFill>
                    </a:lnT>
                    <a:lnB w="4320">
                      <a:solidFill>
                        <a:srgbClr val="2f5897"/>
                      </a:solidFill>
                    </a:lnB>
                    <a:solidFill>
                      <a:srgbClr val="e4e9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4,9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4320">
                      <a:solidFill>
                        <a:srgbClr val="2f5897"/>
                      </a:solidFill>
                    </a:lnL>
                    <a:lnR w="4320">
                      <a:solidFill>
                        <a:srgbClr val="2f5897"/>
                      </a:solidFill>
                    </a:lnR>
                    <a:lnT w="4320">
                      <a:solidFill>
                        <a:srgbClr val="2f5897"/>
                      </a:solidFill>
                    </a:lnT>
                    <a:lnB w="4320">
                      <a:solidFill>
                        <a:srgbClr val="2f5897"/>
                      </a:solidFill>
                    </a:lnB>
                    <a:solidFill>
                      <a:srgbClr val="e4e9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5,3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4320">
                      <a:solidFill>
                        <a:srgbClr val="2f5897"/>
                      </a:solidFill>
                    </a:lnL>
                    <a:lnR w="4320">
                      <a:solidFill>
                        <a:srgbClr val="2f5897"/>
                      </a:solidFill>
                    </a:lnR>
                    <a:lnT w="4320">
                      <a:solidFill>
                        <a:srgbClr val="2f5897"/>
                      </a:solidFill>
                    </a:lnT>
                    <a:lnB w="4320">
                      <a:solidFill>
                        <a:srgbClr val="2f5897"/>
                      </a:solidFill>
                    </a:lnB>
                    <a:solidFill>
                      <a:srgbClr val="e4e9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5,7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4320">
                      <a:solidFill>
                        <a:srgbClr val="2f5897"/>
                      </a:solidFill>
                    </a:lnL>
                    <a:lnR w="4320">
                      <a:solidFill>
                        <a:srgbClr val="2f5897"/>
                      </a:solidFill>
                    </a:lnR>
                    <a:lnT w="4320">
                      <a:solidFill>
                        <a:srgbClr val="2f5897"/>
                      </a:solidFill>
                    </a:lnT>
                    <a:lnB w="4320">
                      <a:solidFill>
                        <a:srgbClr val="2f5897"/>
                      </a:solidFill>
                    </a:lnB>
                    <a:solidFill>
                      <a:srgbClr val="e4e9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6,0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4320">
                      <a:solidFill>
                        <a:srgbClr val="2f5897"/>
                      </a:solidFill>
                    </a:lnL>
                    <a:lnR w="4320">
                      <a:solidFill>
                        <a:srgbClr val="2f5897"/>
                      </a:solidFill>
                    </a:lnR>
                    <a:lnT w="4320">
                      <a:solidFill>
                        <a:srgbClr val="2f5897"/>
                      </a:solidFill>
                    </a:lnT>
                    <a:lnB w="4320">
                      <a:solidFill>
                        <a:srgbClr val="2f5897"/>
                      </a:solidFill>
                    </a:lnB>
                    <a:solidFill>
                      <a:srgbClr val="e4e9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6,6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4320">
                      <a:solidFill>
                        <a:srgbClr val="2f5897"/>
                      </a:solidFill>
                    </a:lnL>
                    <a:lnR w="4320">
                      <a:solidFill>
                        <a:srgbClr val="2f5897"/>
                      </a:solidFill>
                    </a:lnR>
                    <a:lnT w="4320">
                      <a:solidFill>
                        <a:srgbClr val="2f5897"/>
                      </a:solidFill>
                    </a:lnT>
                    <a:lnB w="4320">
                      <a:solidFill>
                        <a:srgbClr val="2f5897"/>
                      </a:solidFill>
                    </a:lnB>
                    <a:solidFill>
                      <a:srgbClr val="e4e9ef"/>
                    </a:solidFill>
                  </a:tcPr>
                </a:tc>
                <a:tc>
                  <a:txBody>
                    <a:bodyPr lIns="10800" rIns="108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36, 7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4320">
                      <a:solidFill>
                        <a:srgbClr val="2f5897"/>
                      </a:solidFill>
                    </a:lnL>
                    <a:lnR w="4320">
                      <a:solidFill>
                        <a:srgbClr val="2f5897"/>
                      </a:solidFill>
                    </a:lnR>
                    <a:lnT w="4320">
                      <a:solidFill>
                        <a:srgbClr val="2f5897"/>
                      </a:solidFill>
                    </a:lnT>
                    <a:lnB w="4320">
                      <a:solidFill>
                        <a:srgbClr val="2f5897"/>
                      </a:solidFill>
                    </a:lnB>
                    <a:solidFill>
                      <a:srgbClr val="e4e9ef"/>
                    </a:solidFill>
                  </a:tcPr>
                </a:tc>
              </a:tr>
              <a:tr h="37980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4320">
                      <a:solidFill>
                        <a:srgbClr val="2f5897"/>
                      </a:solidFill>
                    </a:lnL>
                    <a:lnR w="4320">
                      <a:solidFill>
                        <a:srgbClr val="2f5897"/>
                      </a:solidFill>
                    </a:lnR>
                    <a:lnT w="4320">
                      <a:solidFill>
                        <a:srgbClr val="2f5897"/>
                      </a:solidFill>
                    </a:lnT>
                    <a:lnB w="4320">
                      <a:solidFill>
                        <a:srgbClr val="2f5897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7,5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2f5897"/>
                      </a:solidFill>
                    </a:lnL>
                    <a:lnR w="4320">
                      <a:solidFill>
                        <a:srgbClr val="2f5897"/>
                      </a:solidFill>
                    </a:lnR>
                    <a:lnT w="4320">
                      <a:solidFill>
                        <a:srgbClr val="2f5897"/>
                      </a:solidFill>
                    </a:lnT>
                    <a:lnB w="4320">
                      <a:solidFill>
                        <a:srgbClr val="2f5897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9,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2f5897"/>
                      </a:solidFill>
                    </a:lnL>
                    <a:lnR w="4320">
                      <a:solidFill>
                        <a:srgbClr val="2f5897"/>
                      </a:solidFill>
                    </a:lnR>
                    <a:lnT w="4320">
                      <a:solidFill>
                        <a:srgbClr val="2f5897"/>
                      </a:solidFill>
                    </a:lnT>
                    <a:lnB w="4320">
                      <a:solidFill>
                        <a:srgbClr val="2f5897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31,9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2f5897"/>
                      </a:solidFill>
                    </a:lnL>
                    <a:lnR w="4320">
                      <a:solidFill>
                        <a:srgbClr val="2f5897"/>
                      </a:solidFill>
                    </a:lnR>
                    <a:lnT w="4320">
                      <a:solidFill>
                        <a:srgbClr val="2f5897"/>
                      </a:solidFill>
                    </a:lnT>
                    <a:lnB w="4320">
                      <a:solidFill>
                        <a:srgbClr val="2f5897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34,1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2f5897"/>
                      </a:solidFill>
                    </a:lnL>
                    <a:lnR w="4320">
                      <a:solidFill>
                        <a:srgbClr val="2f5897"/>
                      </a:solidFill>
                    </a:lnR>
                    <a:lnT w="4320">
                      <a:solidFill>
                        <a:srgbClr val="2f5897"/>
                      </a:solidFill>
                    </a:lnT>
                    <a:lnB w="4320">
                      <a:solidFill>
                        <a:srgbClr val="2f5897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36,5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2f5897"/>
                      </a:solidFill>
                    </a:lnL>
                    <a:lnR w="4320">
                      <a:solidFill>
                        <a:srgbClr val="2f5897"/>
                      </a:solidFill>
                    </a:lnR>
                    <a:lnT w="4320">
                      <a:solidFill>
                        <a:srgbClr val="2f5897"/>
                      </a:solidFill>
                    </a:lnT>
                    <a:lnB w="4320">
                      <a:solidFill>
                        <a:srgbClr val="2f5897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38,5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2f5897"/>
                      </a:solidFill>
                    </a:lnL>
                    <a:lnR w="4320">
                      <a:solidFill>
                        <a:srgbClr val="2f5897"/>
                      </a:solidFill>
                    </a:lnR>
                    <a:lnT w="4320">
                      <a:solidFill>
                        <a:srgbClr val="2f5897"/>
                      </a:solidFill>
                    </a:lnT>
                    <a:lnB w="4320">
                      <a:solidFill>
                        <a:srgbClr val="2f5897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40,7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2f5897"/>
                      </a:solidFill>
                    </a:lnL>
                    <a:lnR w="4320">
                      <a:solidFill>
                        <a:srgbClr val="2f5897"/>
                      </a:solidFill>
                    </a:lnR>
                    <a:lnT w="4320">
                      <a:solidFill>
                        <a:srgbClr val="2f5897"/>
                      </a:solidFill>
                    </a:lnT>
                    <a:lnB w="4320">
                      <a:solidFill>
                        <a:srgbClr val="2f5897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39,0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2f5897"/>
                      </a:solidFill>
                    </a:lnL>
                    <a:lnR w="4320">
                      <a:solidFill>
                        <a:srgbClr val="2f5897"/>
                      </a:solidFill>
                    </a:lnR>
                    <a:lnT w="4320">
                      <a:solidFill>
                        <a:srgbClr val="2f5897"/>
                      </a:solidFill>
                    </a:lnT>
                    <a:lnB w="4320">
                      <a:solidFill>
                        <a:srgbClr val="2f589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Text Box 7"/>
          <p:cNvSpPr/>
          <p:nvPr/>
        </p:nvSpPr>
        <p:spPr>
          <a:xfrm>
            <a:off x="119160" y="646200"/>
            <a:ext cx="99550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algn="ctr"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Мероприятия программы «Исследования и разработки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Text Box 11"/>
          <p:cNvSpPr/>
          <p:nvPr/>
        </p:nvSpPr>
        <p:spPr>
          <a:xfrm>
            <a:off x="0" y="109440"/>
            <a:ext cx="5380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Palatino Linotype"/>
              </a:rPr>
              <a:t>ФЦП Исследования и разработ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Text Box 11"/>
          <p:cNvSpPr/>
          <p:nvPr/>
        </p:nvSpPr>
        <p:spPr>
          <a:xfrm>
            <a:off x="8186760" y="69840"/>
            <a:ext cx="156996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Palatino Linotype"/>
              </a:rPr>
              <a:t>Минобрнауки Росс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7" name="Picture 18" descr="Russia_emblem"/>
          <p:cNvPicPr/>
          <p:nvPr/>
        </p:nvPicPr>
        <p:blipFill>
          <a:blip r:embed="rId1"/>
          <a:stretch/>
        </p:blipFill>
        <p:spPr>
          <a:xfrm>
            <a:off x="9693360" y="19044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1188" name="Номер слайда 5"/>
          <p:cNvSpPr/>
          <p:nvPr/>
        </p:nvSpPr>
        <p:spPr>
          <a:xfrm>
            <a:off x="3932280" y="7118280"/>
            <a:ext cx="21337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8F426-F7D0-4F71-9BDD-97C7CC06F5AE}" type="slidenum">
              <a:rPr b="1" lang="ru-RU" sz="1800" spc="-1" strike="noStrike">
                <a:solidFill>
                  <a:srgbClr val="002060"/>
                </a:solidFill>
                <a:latin typeface="Palatino Linotype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89" name=""/>
          <p:cNvGraphicFramePr/>
          <p:nvPr/>
        </p:nvGraphicFramePr>
        <p:xfrm>
          <a:off x="426960" y="1204920"/>
          <a:ext cx="9068040" cy="5705640"/>
        </p:xfrm>
        <a:graphic>
          <a:graphicData uri="http://schemas.openxmlformats.org/drawingml/2006/table">
            <a:tbl>
              <a:tblPr/>
              <a:tblGrid>
                <a:gridCol w="2966040"/>
                <a:gridCol w="94320"/>
                <a:gridCol w="6007680"/>
              </a:tblGrid>
              <a:tr h="262080">
                <a:tc gridSpan="2">
                  <a:txBody>
                    <a:bodyPr lIns="29160" rIns="29160" tIns="468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Мероприятия программы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9160" rIns="29160" tIns="468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Описание мероприяти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 gridSpan="3">
                  <a:txBody>
                    <a:bodyPr lIns="29160" rIns="29160" tIns="468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Проведение исследований, направленных на формирование опережающего научно-технологического задел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8400">
                <a:tc>
                  <a:txBody>
                    <a:bodyPr lIns="29160" rIns="29160" tIns="468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Проведение исследований, направленных на формирование системы научно-технологических приоритетов и прогнозирование развития научно-технической сфер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29160" rIns="29160" tIns="468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В 2014-2020 годах планируется поддержка около </a:t>
                      </a: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00 проектов </a:t>
                      </a: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продолжительностью </a:t>
                      </a: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до 2 лет </a:t>
                      </a: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и стоимостью в зависимости от сложности и важности решаемых задач, софинансирование не предусмотрено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0880">
                <a:tc>
                  <a:txBody>
                    <a:bodyPr lIns="29160" rIns="29160" tIns="468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Проведение исследований по направлениям создания научно-технологического задел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29160" rIns="29160" tIns="468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В 2014-2020 годах на условиях софинансирования в размере от 10% от общих объемов финансирования проектов планируется поддержка около </a:t>
                      </a:r>
                      <a:r>
                        <a:rPr b="1" i="1" lang="ru-RU" sz="11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000 проектов</a:t>
                      </a: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продолжительностью </a:t>
                      </a:r>
                      <a:r>
                        <a:rPr b="1" i="1" lang="ru-RU" sz="11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до 3 лет</a:t>
                      </a: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(многоэтапных работ до 5 лет) и стоимостью </a:t>
                      </a:r>
                      <a:r>
                        <a:rPr b="1" i="1" lang="ru-RU" sz="11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до 20 млн. рублей в год.</a:t>
                      </a: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6160">
                <a:tc>
                  <a:txBody>
                    <a:bodyPr lIns="29160" rIns="29160" tIns="468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Проведение прикладных исследований, направленных на создание опережающего научно-технологического задела для развития отраслей экономи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29160" rIns="29160" tIns="468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В 2014-2020 годах на условиях софинансирования в размере от 40% от общих объемов финансирования проектов (по инициативным тематикам) планируется поддержка около </a:t>
                      </a:r>
                      <a:r>
                        <a:rPr b="1" i="1" lang="ru-RU" sz="11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00 проектов</a:t>
                      </a: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продолжительностью </a:t>
                      </a:r>
                      <a:r>
                        <a:rPr b="1" i="1" lang="ru-RU" sz="11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до 3 лет</a:t>
                      </a: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и стоимостью до </a:t>
                      </a:r>
                      <a:r>
                        <a:rPr b="1" i="1" lang="ru-RU" sz="11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0 млн. рублей в год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6160">
                <a:tc>
                  <a:txBody>
                    <a:bodyPr lIns="29160" rIns="29160" tIns="468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Проведение прикладных исследований, направленных на решение комплексных научно-технологических задач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29160" rIns="29160" tIns="468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В 2014-2020 годах на условиях софинансирования в размере от 10% от общих объемов финансирования проектов планируется поддержка до </a:t>
                      </a:r>
                      <a:r>
                        <a:rPr b="1" i="1" lang="ru-RU" sz="11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00 проектов</a:t>
                      </a: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продолжительностью в зависимости от  сложности и важности решаемых научно-технологических задач и стоимостью </a:t>
                      </a:r>
                      <a:r>
                        <a:rPr b="1" i="1" lang="ru-RU" sz="11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до 100 млн. рублей в год.</a:t>
                      </a: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0920">
                <a:tc gridSpan="3">
                  <a:txBody>
                    <a:bodyPr lIns="29160" rIns="29160" tIns="468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                                             </a:t>
                      </a: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Международное сотрудниче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2480">
                <a:tc>
                  <a:txBody>
                    <a:bodyPr lIns="29160" rIns="29160" tIns="468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Проведение исследований в рамках международного многостороннего и двустороннего сотрудничест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29160" rIns="29160" tIns="468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В 2014-2020 годах на условиях софинансирования в размере не менее 50% от общих объемов финансирования проектов планируется поддержка около </a:t>
                      </a: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00 проектов </a:t>
                      </a: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продолжительностью </a:t>
                      </a: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до 3 лет </a:t>
                      </a: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(долгосрочных проектов до 4 лет) и стоимостью до </a:t>
                      </a: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0 млн. рублей в год</a:t>
                      </a: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4280">
                <a:tc>
                  <a:txBody>
                    <a:bodyPr lIns="29160" rIns="29160" tIns="468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Поддержка исследований в рамках сотрудничества со странами Европейского союз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29160" rIns="29160" tIns="468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В 2014-2020 годах на условиях софинансирования в размере </a:t>
                      </a: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не менее 50% </a:t>
                      </a: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от общих объемов финансирования проектов планируется поддержка около </a:t>
                      </a: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00 проектов </a:t>
                      </a: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продолжительностью до 3 лет (долгосрочных проектов до 4 лет) и стоимостью </a:t>
                      </a: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до 50 млн. рублей в год</a:t>
                      </a: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2840">
                <a:tc>
                  <a:txBody>
                    <a:bodyPr lIns="29160" rIns="29160" tIns="468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Организация участия в крупных международных научных и научно-технических мероприятия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29160" rIns="29160" tIns="468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В 2014-2020 годах планируется поддержка около </a:t>
                      </a: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50 проектов </a:t>
                      </a: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продолжительностью </a:t>
                      </a: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до 1 года </a:t>
                      </a: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и стоимостью </a:t>
                      </a: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до 15 млн. рублей </a:t>
                      </a: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в год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Text Box 7"/>
          <p:cNvSpPr/>
          <p:nvPr/>
        </p:nvSpPr>
        <p:spPr>
          <a:xfrm>
            <a:off x="119160" y="646200"/>
            <a:ext cx="99550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algn="ctr"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Мероприятия программы «Исследования и разработки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Text Box 11"/>
          <p:cNvSpPr/>
          <p:nvPr/>
        </p:nvSpPr>
        <p:spPr>
          <a:xfrm>
            <a:off x="0" y="109440"/>
            <a:ext cx="538020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Palatino Linotype"/>
              </a:rPr>
              <a:t>ФЦП Исследования и разработки и Кадры 2014-202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Text Box 11"/>
          <p:cNvSpPr/>
          <p:nvPr/>
        </p:nvSpPr>
        <p:spPr>
          <a:xfrm>
            <a:off x="8186760" y="69840"/>
            <a:ext cx="156996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Palatino Linotype"/>
              </a:rPr>
              <a:t>Минобрнауки Росс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3" name="Picture 18" descr="Russia_emblem"/>
          <p:cNvPicPr/>
          <p:nvPr/>
        </p:nvPicPr>
        <p:blipFill>
          <a:blip r:embed="rId1"/>
          <a:stretch/>
        </p:blipFill>
        <p:spPr>
          <a:xfrm>
            <a:off x="9693360" y="19044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1194" name="Номер слайда 5"/>
          <p:cNvSpPr/>
          <p:nvPr/>
        </p:nvSpPr>
        <p:spPr>
          <a:xfrm>
            <a:off x="3932280" y="7118280"/>
            <a:ext cx="21337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24E19-C4D3-4250-AA91-14970A154E27}" type="slidenum">
              <a:rPr b="1" lang="ru-RU" sz="1800" spc="-1" strike="noStrike">
                <a:solidFill>
                  <a:srgbClr val="002060"/>
                </a:solidFill>
                <a:latin typeface="Palatino Linotype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95" name=""/>
          <p:cNvGraphicFramePr/>
          <p:nvPr/>
        </p:nvGraphicFramePr>
        <p:xfrm>
          <a:off x="503280" y="1128600"/>
          <a:ext cx="8686800" cy="5899320"/>
        </p:xfrm>
        <a:graphic>
          <a:graphicData uri="http://schemas.openxmlformats.org/drawingml/2006/table">
            <a:tbl>
              <a:tblPr/>
              <a:tblGrid>
                <a:gridCol w="2666880"/>
                <a:gridCol w="6019920"/>
              </a:tblGrid>
              <a:tr h="471600">
                <a:tc>
                  <a:txBody>
                    <a:bodyPr lIns="26280" rIns="26280" tIns="432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Мероприятия программы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432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Описание мероприяти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 gridSpan="2">
                  <a:txBody>
                    <a:bodyPr lIns="26280" rIns="26280" tIns="432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                                                       </a:t>
                      </a: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Инфраструктура исследований и разрабо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1600">
                <a:tc>
                  <a:txBody>
                    <a:bodyPr lIns="26280" rIns="26280" tIns="432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Поддержка и развитие уникальных научных установо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432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В 2014-2020 годах планируется поддержка около </a:t>
                      </a:r>
                      <a:r>
                        <a:rPr b="1" i="1" lang="ru-RU" sz="11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20 проектов</a:t>
                      </a: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продолжительностью </a:t>
                      </a:r>
                      <a:r>
                        <a:rPr b="1" i="1" lang="ru-RU" sz="11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до 3 лет</a:t>
                      </a: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и стоимостью </a:t>
                      </a:r>
                      <a:r>
                        <a:rPr b="1" i="1" lang="ru-RU" sz="11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от 50 до 100 млн. рублей в год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26280" rIns="26280" tIns="432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Поддержка и развитие центров коллективного пользования научным оборудование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432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В 2014-2020 годах на условиях софинансирования в размере от 10% от общих объемов финансирования проектов планируется поддержка до </a:t>
                      </a:r>
                      <a:r>
                        <a:rPr b="1" i="1" lang="ru-RU" sz="11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00 проектов</a:t>
                      </a: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продолжительностью </a:t>
                      </a:r>
                      <a:r>
                        <a:rPr b="1" i="1" lang="ru-RU" sz="11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до 3 лет</a:t>
                      </a: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и стоимостью </a:t>
                      </a:r>
                      <a:r>
                        <a:rPr b="1" i="1" lang="ru-RU" sz="11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до 100 млн. рублей в год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26280" rIns="26280" tIns="432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Обеспечение развития информационной инфраструктур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432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В 2014-2020 годах планируется поддержка </a:t>
                      </a: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около 150 проектов</a:t>
                      </a: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, объем финансирования, а также сроки исполнения проектов определяются в зависимости от сложности и важности решаемых задач, софинансирование не предусмотрено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840">
                <a:tc>
                  <a:txBody>
                    <a:bodyPr lIns="26280" rIns="26280" tIns="432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Развитие системы демонстрации и популяризации результатов и достижений нау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432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В 2014-2020 годах планируется поддержка </a:t>
                      </a: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около 100 проектов</a:t>
                      </a: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, объем финансирования, а также сроки исполнения проектов определяются в зависимости от сложности и важности решаемых задач, софинансирование не предусмотрено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26280" rIns="26280" tIns="432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Развитие системы коммуникаций научной общественности (в том числе, проведение конференций, семинаров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432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В 2014-2020 годах планируется поддержка </a:t>
                      </a: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около 100 проектов</a:t>
                      </a: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, объем финансирования, а также сроки исполнения проектов определяются в зависимости от сложности и важности решаемых задач, софинансирование не предусмотрено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 gridSpan="2">
                  <a:txBody>
                    <a:bodyPr lIns="26280" rIns="26280" tIns="432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                                                       </a:t>
                      </a: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Материально-техническая б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6520">
                <a:tc>
                  <a:txBody>
                    <a:bodyPr lIns="26280" rIns="26280" tIns="432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Развитие материально-технической базы научно-технической сфер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432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В 2014-2020 годах планируется поддержка </a:t>
                      </a: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7 проектов</a:t>
                      </a: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(объектов) продолжительностью </a:t>
                      </a: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до 7 лет</a:t>
                      </a: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.  Объем финансирования проектов и сроки их исполнения определяются исходя из сметной стоимости строительства, реконструкции или технического перевооружения объектов с учетом возможностей федерального бюджета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 gridSpan="2">
                  <a:txBody>
                    <a:bodyPr lIns="26280" rIns="26280" tIns="432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                                                        </a:t>
                      </a: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Управление реализацией Програм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2480">
                <a:tc>
                  <a:txBody>
                    <a:bodyPr lIns="26280" rIns="26280" tIns="432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Информационно-аналитическое обеспечение и мониторинг реализации мероприятий Программ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432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В 2014-2020 годах планируется поддержка около </a:t>
                      </a: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00 проектов</a:t>
                      </a: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, объем финансирования, а также сроки исполнения проектов определяются в зависимости от сложности и важности решаемых задач, софинансирование не предусмотре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26280" rIns="26280" tIns="432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Организационно-техническое обеспечение мероприятий Программ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432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012680"/>
                          <a:tab algn="l" pos="2025720"/>
                          <a:tab algn="l" pos="3038400"/>
                          <a:tab algn="l" pos="4051440"/>
                          <a:tab algn="l" pos="5064120"/>
                          <a:tab algn="l" pos="6076800"/>
                          <a:tab algn="l" pos="7089840"/>
                          <a:tab algn="l" pos="8102520"/>
                          <a:tab algn="l" pos="9115560"/>
                          <a:tab algn="l" pos="1012824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Осуществляется Дирекцией Программы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6T19:40:15Z</dcterms:created>
  <dc:creator>Daniel Taylor</dc:creator>
  <dc:description/>
  <dc:language>en-US</dc:language>
  <cp:lastModifiedBy>Sergey</cp:lastModifiedBy>
  <cp:lastPrinted>2013-05-15T06:07:50Z</cp:lastPrinted>
  <dcterms:modified xsi:type="dcterms:W3CDTF">2013-09-23T19:58:58Z</dcterms:modified>
  <cp:revision>1068</cp:revision>
  <dc:subject/>
  <dc:title>Slide 1</dc:title>
</cp:coreProperties>
</file>