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161-EFB2-4320-8D30-81005187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ED6-9354-46EF-A33D-49106A4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10A-5A9B-4F1E-A7BD-CC0FED0C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537-01DE-4761-AB68-75AA2463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5FC-87B5-4595-8CCD-02D26FA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7C7-98F4-4AAB-8F0C-D4225A2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92B-7748-4F0B-91B4-CB9BEBF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7C7-1CE1-4E6E-BC18-AD38DC7E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1B0-F34A-4219-9828-0505ADD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790-EB59-41CB-A98A-74CD11A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5D3-834E-41E6-A8BB-9D75E11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EC6-EF48-440C-A6B4-52DD470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0198-BDA8-4006-A33B-48A6EBF4D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foto_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79280" y="907920"/>
            <a:ext cx="885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оенная академия РВСН имени Петра Вели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ОАО «НИИ полимерных материалов»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114480" y="1341360"/>
            <a:ext cx="902952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133200" y="1560600"/>
            <a:ext cx="8971200" cy="14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133200" y="1484280"/>
            <a:ext cx="8971200" cy="18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Orden_1"/>
          <p:cNvPicPr/>
          <p:nvPr/>
        </p:nvPicPr>
        <p:blipFill>
          <a:blip r:embed="rId2"/>
          <a:stretch/>
        </p:blipFill>
        <p:spPr>
          <a:xfrm>
            <a:off x="3203640" y="0"/>
            <a:ext cx="2652480" cy="98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Большая эмблема"/>
          <p:cNvPicPr/>
          <p:nvPr/>
        </p:nvPicPr>
        <p:blipFill>
          <a:blip r:embed="rId3"/>
          <a:stretch/>
        </p:blipFill>
        <p:spPr>
          <a:xfrm>
            <a:off x="179280" y="1773360"/>
            <a:ext cx="101448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33"/>
          <p:cNvSpPr/>
          <p:nvPr/>
        </p:nvSpPr>
        <p:spPr>
          <a:xfrm>
            <a:off x="0" y="466848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ОБЛЕМЫ РАЦИОНАЛЬНОГО ИСПОЛЬЗОВАНИЯ ВТОРИЧНЫХ РЕСУРСОВ, ОБРАЗУЮЩИХСЯ ПРИ СЖИГАНИИ ЭНЕРГЕТ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Мелешко В.Ю., Краснобаев Ю.Л., Качуро В.А., Поник А.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95280" y="4941720"/>
            <a:ext cx="855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395280" y="404640"/>
            <a:ext cx="8229600" cy="649440"/>
          </a:xfrm>
          <a:custGeom>
            <a:avLst/>
            <a:gdLst>
              <a:gd name="textAreaLeft" fmla="*/ 113040 w 8229600"/>
              <a:gd name="textAreaRight" fmla="*/ 8116560 w 8229600"/>
              <a:gd name="textAreaTop" fmla="*/ 113040 h 649440"/>
              <a:gd name="textAreaBottom" fmla="*/ 536400 h 649440"/>
            </a:gdLst>
            <a:ahLst/>
            <a:rect l="textAreaLeft" t="textAreaTop" r="textAreaRight" b="textAreaBottom"/>
            <a:pathLst>
              <a:path w="2735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68247" y="21600"/>
                </a:lnTo>
                <a:arcTo wR="5325" hR="5325" stAng="10800000" swAng="5400000"/>
                <a:lnTo>
                  <a:pt x="2735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анализа химического сост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93" descr="Рисунок1"/>
          <p:cNvPicPr/>
          <p:nvPr/>
        </p:nvPicPr>
        <p:blipFill>
          <a:blip r:embed="rId1"/>
          <a:stretch/>
        </p:blipFill>
        <p:spPr>
          <a:xfrm>
            <a:off x="1692360" y="1341360"/>
            <a:ext cx="56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468360" y="189000"/>
            <a:ext cx="8229600" cy="857160"/>
          </a:xfrm>
          <a:custGeom>
            <a:avLst/>
            <a:gdLst>
              <a:gd name="textAreaLeft" fmla="*/ 149400 w 8229600"/>
              <a:gd name="textAreaRight" fmla="*/ 8080200 w 8229600"/>
              <a:gd name="textAreaTop" fmla="*/ 149400 h 857160"/>
              <a:gd name="textAreaBottom" fmla="*/ 707760 h 857160"/>
            </a:gdLst>
            <a:ahLst/>
            <a:rect l="textAreaLeft" t="textAreaTop" r="textAreaRight" b="textAreaBottom"/>
            <a:pathLst>
              <a:path w="207304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01979" y="21600"/>
                </a:lnTo>
                <a:arcTo wR="5325" hR="5325" stAng="10800000" swAng="5400000"/>
                <a:lnTo>
                  <a:pt x="207304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энергодисперсионного элементного микроанал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88"/>
          <p:cNvGrpSpPr/>
          <p:nvPr/>
        </p:nvGrpSpPr>
        <p:grpSpPr>
          <a:xfrm>
            <a:off x="826920" y="1268280"/>
            <a:ext cx="7632720" cy="4897440"/>
            <a:chOff x="826920" y="1268280"/>
            <a:chExt cx="7632720" cy="4897440"/>
          </a:xfrm>
        </p:grpSpPr>
        <p:pic>
          <p:nvPicPr>
            <p:cNvPr id="89" name="Рисунок 11" descr="601"/>
            <p:cNvPicPr/>
            <p:nvPr/>
          </p:nvPicPr>
          <p:blipFill>
            <a:blip r:embed="rId1"/>
            <a:stretch/>
          </p:blipFill>
          <p:spPr>
            <a:xfrm>
              <a:off x="826920" y="1268280"/>
              <a:ext cx="7632720" cy="489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Группа 64"/>
            <p:cNvGrpSpPr/>
            <p:nvPr/>
          </p:nvGrpSpPr>
          <p:grpSpPr>
            <a:xfrm>
              <a:off x="1242360" y="2075040"/>
              <a:ext cx="7107480" cy="2873880"/>
              <a:chOff x="1242360" y="2075040"/>
              <a:chExt cx="7107480" cy="2873880"/>
            </a:xfrm>
          </p:grpSpPr>
          <p:grpSp>
            <p:nvGrpSpPr>
              <p:cNvPr id="91" name="Группа 46"/>
              <p:cNvGrpSpPr/>
              <p:nvPr/>
            </p:nvGrpSpPr>
            <p:grpSpPr>
              <a:xfrm>
                <a:off x="6709680" y="2956680"/>
                <a:ext cx="974880" cy="900000"/>
                <a:chOff x="6709680" y="2956680"/>
                <a:chExt cx="974880" cy="900000"/>
              </a:xfrm>
            </p:grpSpPr>
            <p:sp>
              <p:nvSpPr>
                <p:cNvPr id="92" name="Поле 27"/>
                <p:cNvSpPr/>
                <p:nvPr/>
              </p:nvSpPr>
              <p:spPr>
                <a:xfrm>
                  <a:off x="6709680" y="2956680"/>
                  <a:ext cx="6296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500" spc="-1" strike="noStrike">
                      <a:solidFill>
                        <a:srgbClr val="c00000"/>
                      </a:solidFill>
                      <a:latin typeface="Arial"/>
                      <a:ea typeface="Calibri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" name="Группа 30"/>
                <p:cNvGrpSpPr/>
                <p:nvPr/>
              </p:nvGrpSpPr>
              <p:grpSpPr>
                <a:xfrm>
                  <a:off x="7015320" y="3350160"/>
                  <a:ext cx="669240" cy="506520"/>
                  <a:chOff x="7015320" y="3350160"/>
                  <a:chExt cx="669240" cy="506520"/>
                </a:xfrm>
              </p:grpSpPr>
              <p:sp>
                <p:nvSpPr>
                  <p:cNvPr id="94" name="Прямая соединительная линия 28"/>
                  <p:cNvSpPr/>
                  <p:nvPr/>
                </p:nvSpPr>
                <p:spPr>
                  <a:xfrm flipH="1" flipV="1">
                    <a:off x="7350120" y="3350160"/>
                    <a:ext cx="15120" cy="506520"/>
                  </a:xfrm>
                  <a:prstGeom prst="line">
                    <a:avLst/>
                  </a:prstGeom>
                  <a:ln w="1260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Прямая соединительная линия 29"/>
                  <p:cNvSpPr/>
                  <p:nvPr/>
                </p:nvSpPr>
                <p:spPr>
                  <a:xfrm flipH="1">
                    <a:off x="7015320" y="3609720"/>
                    <a:ext cx="669240" cy="0"/>
                  </a:xfrm>
                  <a:prstGeom prst="line">
                    <a:avLst/>
                  </a:prstGeom>
                  <a:ln w="1260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Группа 63"/>
              <p:cNvGrpSpPr/>
              <p:nvPr/>
            </p:nvGrpSpPr>
            <p:grpSpPr>
              <a:xfrm>
                <a:off x="1242360" y="2281320"/>
                <a:ext cx="2488680" cy="2667600"/>
                <a:chOff x="1242360" y="2281320"/>
                <a:chExt cx="2488680" cy="2667600"/>
              </a:xfrm>
            </p:grpSpPr>
            <p:sp>
              <p:nvSpPr>
                <p:cNvPr id="97" name="Прямоугольник 24"/>
                <p:cNvSpPr/>
                <p:nvPr/>
              </p:nvSpPr>
              <p:spPr>
                <a:xfrm>
                  <a:off x="1242360" y="2281320"/>
                  <a:ext cx="2480040" cy="2667600"/>
                </a:xfrm>
                <a:prstGeom prst="rect">
                  <a:avLst/>
                </a:prstGeom>
                <a:noFill/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Поле 31"/>
                <p:cNvSpPr/>
                <p:nvPr/>
              </p:nvSpPr>
              <p:spPr>
                <a:xfrm>
                  <a:off x="3101400" y="2281320"/>
                  <a:ext cx="6296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500" spc="-1" strike="noStrike">
                      <a:solidFill>
                        <a:srgbClr val="c00000"/>
                      </a:solidFill>
                      <a:latin typeface="Arial"/>
                      <a:ea typeface="Calibri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Группа 62"/>
              <p:cNvGrpSpPr/>
              <p:nvPr/>
            </p:nvGrpSpPr>
            <p:grpSpPr>
              <a:xfrm>
                <a:off x="6184800" y="2075040"/>
                <a:ext cx="2165040" cy="2667600"/>
                <a:chOff x="6184800" y="2075040"/>
                <a:chExt cx="2165040" cy="2667600"/>
              </a:xfrm>
            </p:grpSpPr>
            <p:sp>
              <p:nvSpPr>
                <p:cNvPr id="100" name="Прямоугольник 32"/>
                <p:cNvSpPr/>
                <p:nvPr/>
              </p:nvSpPr>
              <p:spPr>
                <a:xfrm>
                  <a:off x="6184800" y="2075040"/>
                  <a:ext cx="2165040" cy="2667600"/>
                </a:xfrm>
                <a:prstGeom prst="rect">
                  <a:avLst/>
                </a:prstGeom>
                <a:noFill/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Поле 33"/>
                <p:cNvSpPr/>
                <p:nvPr/>
              </p:nvSpPr>
              <p:spPr>
                <a:xfrm>
                  <a:off x="7693920" y="2093760"/>
                  <a:ext cx="6296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500" spc="-1" strike="noStrike">
                      <a:solidFill>
                        <a:srgbClr val="c00000"/>
                      </a:solidFill>
                      <a:latin typeface="Arial"/>
                      <a:ea typeface="Calibri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395280" y="189000"/>
            <a:ext cx="8229600" cy="714240"/>
          </a:xfrm>
          <a:custGeom>
            <a:avLst/>
            <a:gdLst>
              <a:gd name="textAreaLeft" fmla="*/ 124560 w 8229600"/>
              <a:gd name="textAreaRight" fmla="*/ 8105040 w 8229600"/>
              <a:gd name="textAreaTop" fmla="*/ 124560 h 714240"/>
              <a:gd name="textAreaBottom" fmla="*/ 589680 h 714240"/>
            </a:gdLst>
            <a:ahLst/>
            <a:rect l="textAreaLeft" t="textAreaTop" r="textAreaRight" b="textAreaBottom"/>
            <a:pathLst>
              <a:path w="248765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43440" y="21600"/>
                </a:lnTo>
                <a:arcTo wR="5325" hR="5325" stAng="10800000" swAng="5400000"/>
                <a:lnTo>
                  <a:pt x="248765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энергодисперсионного элементного микро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0" y="2408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97" descr="Безымянный 2"/>
          <p:cNvPicPr/>
          <p:nvPr/>
        </p:nvPicPr>
        <p:blipFill>
          <a:blip r:embed="rId1"/>
          <a:stretch/>
        </p:blipFill>
        <p:spPr>
          <a:xfrm>
            <a:off x="1835280" y="981000"/>
            <a:ext cx="57610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и ликвидации ЭМ способом сжигания образуется существенное количество оксида алюминия, захоронение которого сопровождается большими затратами на мероприятия по охране окружающей сре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аправление использования оксида алюминия, полученного при сжигании ЭМ, может быть выбрано после определения его физико-химических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Установлено, что порошо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состоит преимущественно из частиц сферической и округлой формы с размером от долей микрона до 15 мкм и частиц различных включений неправильной угловатой и игольчатой формы с характерным размером от нескольких единиц до нескольких сотен микр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лученное объемное (массовое) распределение частиц по размеру указывает на то, что порошок оксида алюминия состоит в основном из частиц с размером в диапазоне 1÷20 мкм. Счетное (количественное) распределение частиц по размеру указывает на то, что основное количество частиц находится в субмикронной области в диапазоне размеров 0,2÷1 мк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Характер распределения элементов указывает на то, что порошо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имеет сильно неоднородный химический состав с большим количеством включений различной природы и морфологии. Примесные элементы в основном находятся в виде включений различного размера и при необходимости могут быть извлечены из порошкового образ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Химический состав большинства включений характеризуется наличием преимущественн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чуть реж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же в небольшом количестве встреч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. Точные данные о содержании углерода и азота получены с помощью газовых методов: общее содержание 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] = 0,041 масс. %, общее содержание 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] = 0,482 масс. 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Для исследования возможности дальнейшего использования отход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необходима его очистка от примесей, прежде всего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0560" y="313920"/>
            <a:ext cx="7979040" cy="4683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txBody>
          <a:bodyPr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foto_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95400" y="1308240"/>
            <a:ext cx="902952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33"/>
          <p:cNvSpPr/>
          <p:nvPr/>
        </p:nvSpPr>
        <p:spPr>
          <a:xfrm>
            <a:off x="0" y="80388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ОКЛАД  ОКОН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пасибо за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34"/>
          <p:cNvSpPr/>
          <p:nvPr/>
        </p:nvSpPr>
        <p:spPr>
          <a:xfrm>
            <a:off x="1139760" y="5084640"/>
            <a:ext cx="8004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395280" y="26028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выжигания взрывчатого на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28760" y="28584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е отхода оксида алюм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539640" y="144468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26920" y="3700440"/>
          <a:ext cx="7993080" cy="3019320"/>
        </p:xfrm>
        <a:graphic>
          <a:graphicData uri="http://schemas.openxmlformats.org/drawingml/2006/table">
            <a:tbl>
              <a:tblPr/>
              <a:tblGrid>
                <a:gridCol w="3683160"/>
                <a:gridCol w="2154240"/>
                <a:gridCol w="2155680"/>
              </a:tblGrid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 затрат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пределах установленных лимитов, 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 отсутствии установленных лимитов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та за негативное воздействие на 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6 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 232 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оимость передачи отход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l</a:t>
                      </a:r>
                      <a:r>
                        <a:rPr b="1" lang="ru-RU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полигон за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60 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оимость передачи накопленных отход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l</a:t>
                      </a:r>
                      <a:r>
                        <a:rPr b="1" lang="ru-RU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полиг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оимость мероприятий по обращению с опасными отхо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трафные са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5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 606 569 (3 606 569 в последующие год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482 843 + нерешенная проблема с накопленными отхо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8" descr="Двадцать два миллиона &quot;лошадей&quot;"/>
          <p:cNvPicPr/>
          <p:nvPr/>
        </p:nvPicPr>
        <p:blipFill>
          <a:blip r:embed="rId1"/>
          <a:stretch/>
        </p:blipFill>
        <p:spPr>
          <a:xfrm>
            <a:off x="826920" y="1052640"/>
            <a:ext cx="3783240" cy="21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292720" y="1052640"/>
            <a:ext cx="3672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ничтожении одного комплекта двигателей образуется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 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сида алюм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д (например, уничтожение 38 комплектов двигателей) общая накопленная масса составит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67 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сида алюм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астоящее время накоплено бо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0 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сида алюм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656440" y="3224160"/>
            <a:ext cx="383076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траты за размещение отход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395280" y="26028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выжигания взрывчатого на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428760" y="28584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ия использования оксида алюм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39640" y="144468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8" descr=""/>
          <p:cNvPicPr/>
          <p:nvPr/>
        </p:nvPicPr>
        <p:blipFill>
          <a:blip r:embed="rId1"/>
          <a:stretch/>
        </p:blipFill>
        <p:spPr>
          <a:xfrm>
            <a:off x="530280" y="974880"/>
            <a:ext cx="8235720" cy="4078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0"/>
          <p:cNvSpPr/>
          <p:nvPr/>
        </p:nvSpPr>
        <p:spPr>
          <a:xfrm>
            <a:off x="53964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тельное решение вопроса о направлении использования оксида алюминия, полученного при сжигании ЭМ, может быть принято после определения его физико-химически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395280" y="26028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выжигания взрывчатого на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28760" y="28584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анализа фазового и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39640" y="1414080"/>
            <a:ext cx="8425080" cy="469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проведения качественного и полуколичественного элементного анал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лся метод рентгенофлуоресцентной спектроскопии (РФС) на спектрометре VRA-33 (Carl Zei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количественного определения содержания примес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лся метод последовательной атомно-эмиcсионной спектроскопии c индуктивно-связанной плазмой (АЭС-ИСП) на спектрометр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ba Jobin Yv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определения общего содержания азота [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] и углерода [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лись газовые анализаторы TC‑600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412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нтгенофазов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ФА) образцов проводился с помощью рентгеновского дифрактом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ma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ak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проведения химического микроанализа и определения характера распределения химических элемент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среди час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лся метод энергодисперсионной рентгеновской спектроскопии (ЭДС), реализованный на пристав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канирующей электронной микроскоп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395280" y="54936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нирующая электронная микроск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2" descr="E:\2014.02.05 Al2O3(отх. косм. тв. топл.) - СЭМ, МИСиС\4000.tif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08000" y="2276640"/>
            <a:ext cx="4392720" cy="3303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3" descr="E:\2014.02.05 Al2O3(отх. косм. тв. топл.) - СЭМ, МИСиС\5000.tif"/>
          <p:cNvPicPr/>
          <p:nvPr/>
        </p:nvPicPr>
        <p:blipFill>
          <a:blip r:embed="rId2"/>
          <a:stretch/>
        </p:blipFill>
        <p:spPr>
          <a:xfrm>
            <a:off x="4572000" y="2276640"/>
            <a:ext cx="43927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395280" y="549360"/>
            <a:ext cx="8497800" cy="647640"/>
          </a:xfrm>
          <a:custGeom>
            <a:avLst/>
            <a:gdLst>
              <a:gd name="textAreaLeft" fmla="*/ 112680 w 8497800"/>
              <a:gd name="textAreaRight" fmla="*/ 8385120 w 8497800"/>
              <a:gd name="textAreaTop" fmla="*/ 112680 h 647640"/>
              <a:gd name="textAreaBottom" fmla="*/ 534960 h 647640"/>
            </a:gdLst>
            <a:ahLst/>
            <a:rect l="textAreaLeft" t="textAreaTop" r="textAreaRight" b="textAreaBottom"/>
            <a:pathLst>
              <a:path w="283272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77947" y="21600"/>
                </a:lnTo>
                <a:arcTo wR="5325" hR="5325" stAng="10800000" swAng="5400000"/>
                <a:lnTo>
                  <a:pt x="283272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нирующая электронная микроск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Безымянныйоксид"/>
          <p:cNvPicPr/>
          <p:nvPr/>
        </p:nvPicPr>
        <p:blipFill>
          <a:blip r:embed="rId1"/>
          <a:stretch/>
        </p:blipFill>
        <p:spPr>
          <a:xfrm>
            <a:off x="395280" y="1268280"/>
            <a:ext cx="4237200" cy="473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Безымянныйоксид1"/>
          <p:cNvPicPr/>
          <p:nvPr/>
        </p:nvPicPr>
        <p:blipFill>
          <a:blip r:embed="rId2"/>
          <a:stretch/>
        </p:blipFill>
        <p:spPr>
          <a:xfrm>
            <a:off x="4716360" y="1268280"/>
            <a:ext cx="4237200" cy="4734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87400" y="6236640"/>
            <a:ext cx="2421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10 000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942160" y="6165720"/>
            <a:ext cx="235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30 000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357120" y="571680"/>
            <a:ext cx="8497800" cy="882360"/>
          </a:xfrm>
          <a:custGeom>
            <a:avLst/>
            <a:gdLst>
              <a:gd name="textAreaLeft" fmla="*/ 153720 w 8497800"/>
              <a:gd name="textAreaRight" fmla="*/ 8344080 w 8497800"/>
              <a:gd name="textAreaTop" fmla="*/ 153720 h 882360"/>
              <a:gd name="textAreaBottom" fmla="*/ 728640 h 882360"/>
            </a:gdLst>
            <a:ahLst/>
            <a:rect l="textAreaLeft" t="textAreaTop" r="textAreaRight" b="textAreaBottom"/>
            <a:pathLst>
              <a:path w="207948" h="21600">
                <a:moveTo>
                  <a:pt x="5325" y="0"/>
                </a:moveTo>
                <a:arcTo wR="5325" hR="5325" stAng="0" swAng="5400000"/>
                <a:lnTo>
                  <a:pt x="0" y="16275"/>
                </a:lnTo>
                <a:arcTo wR="5325" hR="5325" stAng="16200000" swAng="5400000"/>
                <a:lnTo>
                  <a:pt x="202623" y="21600"/>
                </a:lnTo>
                <a:arcTo wR="5325" hR="5325" stAng="10800000" swAng="5400000"/>
                <a:lnTo>
                  <a:pt x="207948" y="5325"/>
                </a:lnTo>
                <a:arcTo wR="5325" hR="5325" stAng="5400000" swAng="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улометрический анал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объемного (массового) распределения частиц по разме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8748720" y="0"/>
            <a:ext cx="395280" cy="404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rcRect l="0" t="28308" r="33719" b="46055"/>
          <a:stretch/>
        </p:blipFill>
        <p:spPr>
          <a:xfrm>
            <a:off x="971640" y="1685880"/>
            <a:ext cx="7489800" cy="1816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7561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1879" t="0" r="0" b="0"/>
          <a:stretch/>
        </p:blipFill>
        <p:spPr>
          <a:xfrm>
            <a:off x="108000" y="1916280"/>
            <a:ext cx="4632120" cy="3315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30480" y="411480"/>
            <a:ext cx="8338320" cy="5659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txBody>
          <a:bodyPr anchor="ctr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стограмма распределения частиц по размер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178640" y="5444280"/>
            <a:ext cx="2384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УЗ-воз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84720" cy="3203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5886720" y="5373000"/>
            <a:ext cx="2328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З-воздейств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916640" y="1340640"/>
            <a:ext cx="5609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Tec Laser Particle Sizer Analysett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22 фирмы Fr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5280" y="1844640"/>
          <a:ext cx="8229600" cy="4370400"/>
        </p:xfrm>
        <a:graphic>
          <a:graphicData uri="http://schemas.openxmlformats.org/drawingml/2006/table">
            <a:tbl>
              <a:tblPr/>
              <a:tblGrid>
                <a:gridCol w="2691000"/>
                <a:gridCol w="2528640"/>
                <a:gridCol w="3009960"/>
              </a:tblGrid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ы обнаружения, масс.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в образце, масс.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 txBox="1"/>
          <p:nvPr/>
        </p:nvSpPr>
        <p:spPr>
          <a:xfrm>
            <a:off x="304920" y="675000"/>
            <a:ext cx="8389440" cy="46944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7a993d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анализа примес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47:53Z</dcterms:created>
  <dc:creator>Ruslan</dc:creator>
  <dc:description/>
  <dc:language>en-US</dc:language>
  <cp:lastModifiedBy>User</cp:lastModifiedBy>
  <dcterms:modified xsi:type="dcterms:W3CDTF">2014-11-11T07:59:26Z</dcterms:modified>
  <cp:revision>367</cp:revision>
  <dc:subject/>
  <dc:title>Слайд 1</dc:title>
</cp:coreProperties>
</file>