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1D1-9C9D-4DA5-8A8E-118E3B18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293-5DB4-456F-95BC-D477AAF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04C-A97A-44DC-B636-6A813C1E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83A-F5C3-4160-9A39-FA9C4E1E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CD5-4FD1-445C-8F5B-9A93793F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D23-8AC4-431F-A044-8A2A1CE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6EC-2DD5-4074-AFF2-D3F46E4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3C4-B417-4472-87B9-FD215A59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F36-07EF-4ED5-A783-F9A927D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88E-BA54-453E-BDC7-E021DF4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2F6-F99A-45AD-82C6-3348CC6F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80A-3F0D-4B32-B9F9-A5EB0B3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9A78-293D-4969-AE61-7A007101B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m.mhd@mail.ioffe.ru" TargetMode="External"/><Relationship Id="rId3" Type="http://schemas.openxmlformats.org/officeDocument/2006/relationships/hyperlink" Target="mailto:Sam.mhd@mail.ioffe.ru" TargetMode="External"/><Relationship Id="rId4" Type="http://schemas.openxmlformats.org/officeDocument/2006/relationships/hyperlink" Target="mailto:Sam.mhd@mail.ioffe.ru" TargetMode="External"/><Relationship Id="rId5" Type="http://schemas.openxmlformats.org/officeDocument/2006/relationships/hyperlink" Target="mailto:Sam.mhd@mail.ioffe.ru" TargetMode="External"/><Relationship Id="rId6" Type="http://schemas.openxmlformats.org/officeDocument/2006/relationships/hyperlink" Target="mailto:Sam.mhd@mail.ioffe.ru" TargetMode="External"/><Relationship Id="rId7" Type="http://schemas.openxmlformats.org/officeDocument/2006/relationships/hyperlink" Target="mailto:Sam.mhd@mail.ioffe.ru" TargetMode="External"/><Relationship Id="rId8" Type="http://schemas.openxmlformats.org/officeDocument/2006/relationships/hyperlink" Target="mailto:Sam.mhd@mail.ioffe.ru" TargetMode="External"/><Relationship Id="rId9" Type="http://schemas.openxmlformats.org/officeDocument/2006/relationships/hyperlink" Target="mailto:Sam.mhd@mail.ioffe.ru" TargetMode="External"/><Relationship Id="rId10" Type="http://schemas.openxmlformats.org/officeDocument/2006/relationships/hyperlink" Target="mailto:Sam.mhd@mail.ioffe.ru" TargetMode="External"/><Relationship Id="rId11" Type="http://schemas.openxmlformats.org/officeDocument/2006/relationships/hyperlink" Target="mailto:o.a.troitsky@rambler.ru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hyperlink" Target="mailto:Sam.mhd@mail.ioffe.ru" TargetMode="External"/><Relationship Id="rId4" Type="http://schemas.openxmlformats.org/officeDocument/2006/relationships/hyperlink" Target="mailto:Sam.mhd@mail.ioffe.ru" TargetMode="External"/><Relationship Id="rId5" Type="http://schemas.openxmlformats.org/officeDocument/2006/relationships/hyperlink" Target="mailto:Sam.mhd@mail.ioffe.ru" TargetMode="External"/><Relationship Id="rId6" Type="http://schemas.openxmlformats.org/officeDocument/2006/relationships/hyperlink" Target="mailto:Sam.mhd@mail.ioffe.ru" TargetMode="External"/><Relationship Id="rId7" Type="http://schemas.openxmlformats.org/officeDocument/2006/relationships/hyperlink" Target="mailto:Sam.mhd@mail.ioffe.ru" TargetMode="External"/><Relationship Id="rId8" Type="http://schemas.openxmlformats.org/officeDocument/2006/relationships/hyperlink" Target="mailto:Sam.mhd@mail.ioffe.ru" TargetMode="External"/><Relationship Id="rId9" Type="http://schemas.openxmlformats.org/officeDocument/2006/relationships/hyperlink" Target="mailto:Sam.mhd@mail.ioffe.ru" TargetMode="External"/><Relationship Id="rId10" Type="http://schemas.openxmlformats.org/officeDocument/2006/relationships/hyperlink" Target="mailto:Sam.mhd@mail.ioffe.ru" TargetMode="External"/><Relationship Id="rId11" Type="http://schemas.openxmlformats.org/officeDocument/2006/relationships/hyperlink" Target="mailto:Sam.mhd@mail.ioffe.ru" TargetMode="External"/><Relationship Id="rId12" Type="http://schemas.openxmlformats.org/officeDocument/2006/relationships/hyperlink" Target="mailto:oatroitsky@ramblwer.ru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Temp\Innovation\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2060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ктропластическое компактирование дисперсных проводящих сред для рециклинга отходов высокопрочных сплавов, получения заготовок, полуфабрикатов материалов и издел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0"/>
          <p:cNvSpPr/>
          <p:nvPr/>
        </p:nvSpPr>
        <p:spPr>
          <a:xfrm>
            <a:off x="324000" y="486900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уйлов С.Д., Троицкий О.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Технический Институт им. А.Ф. Иоффе, Россия, Санкт Петербург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a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hd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@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ai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ioff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ru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итут машиноведения им. А.А. Благонравова РАН, Россия, Моск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o.a.troitsky@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6433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бный брикет из стружки меди (М0) Размер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42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62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4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80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20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SCF0005"/>
          <p:cNvPicPr/>
          <p:nvPr/>
        </p:nvPicPr>
        <p:blipFill>
          <a:blip r:embed="rId1"/>
          <a:stretch/>
        </p:blipFill>
        <p:spPr>
          <a:xfrm>
            <a:off x="1143000" y="500040"/>
            <a:ext cx="70786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333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брикета из латунной стружки Размер брикета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7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8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5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470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 algn="ctr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IMG_5497"/>
          <p:cNvPicPr/>
          <p:nvPr/>
        </p:nvPicPr>
        <p:blipFill>
          <a:blip r:embed="rId1"/>
          <a:stretch/>
        </p:blipFill>
        <p:spPr>
          <a:xfrm>
            <a:off x="1000080" y="571680"/>
            <a:ext cx="7062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14200" y="5500440"/>
            <a:ext cx="86248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тография брикета из стружки алюминиевого сплава. Размер брикета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7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6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8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,0 г/с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60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4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MG_5491"/>
          <p:cNvPicPr/>
          <p:nvPr/>
        </p:nvPicPr>
        <p:blipFill>
          <a:blip r:embed="rId1"/>
          <a:stretch/>
        </p:blipFill>
        <p:spPr>
          <a:xfrm>
            <a:off x="961920" y="428760"/>
            <a:ext cx="73296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5720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брикета из чугунной стружки. Размер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3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,8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00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БР-ЧУГУН"/>
          <p:cNvPicPr/>
          <p:nvPr/>
        </p:nvPicPr>
        <p:blipFill>
          <a:blip r:embed="rId1"/>
          <a:stretch/>
        </p:blipFill>
        <p:spPr>
          <a:xfrm>
            <a:off x="2928960" y="714240"/>
            <a:ext cx="30718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5733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икет из стружки нержавеюще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высоколегированной) стали. Размер: диаметр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3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00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,5 г/см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0 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4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E:\DISSER\DSCF0001.JPG"/>
          <p:cNvPicPr/>
          <p:nvPr/>
        </p:nvPicPr>
        <p:blipFill>
          <a:blip r:embed="rId1"/>
          <a:stretch/>
        </p:blipFill>
        <p:spPr>
          <a:xfrm>
            <a:off x="900000" y="98280"/>
            <a:ext cx="73533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3575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брикета из стального измельченного лома электроосветительной арматуры, куск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Размер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3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0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,1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465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3575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брикета из измельченного лома автоматных гильз, куски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 – 4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Размер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35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масс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98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,0 г/см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688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5373720"/>
            <a:ext cx="849600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фрагмента брикета из стружки высокопрочного титанового сплава ВТ20 с добавлением крупных кусков титана с размером: диаметр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длина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48 мм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ассой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68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Размер брикета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15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2 г/см3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558972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фрагмента композитного брикета из стружки стали Ст. 3 с добавкой кусков материала с малой электропроводностью (горной породы). Размер брикета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6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4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 кг (400 г стружки и 600 г породы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IMG_5506"/>
          <p:cNvPicPr/>
          <p:nvPr/>
        </p:nvPicPr>
        <p:blipFill>
          <a:blip r:embed="rId1"/>
          <a:stretch/>
        </p:blipFill>
        <p:spPr>
          <a:xfrm>
            <a:off x="826920" y="115920"/>
            <a:ext cx="72248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541008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икет из порошка титана (диаметр 35, высота 46,5 мм; масса 103 г, плотность 2,3 г/см3; пористость 50%; осыпь порошка 2,5 г, 2,4 %) справа увеличенное изображение его центральной части 1х1 с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561" descr="Брикеты сравнение 2"/>
          <p:cNvPicPr/>
          <p:nvPr/>
        </p:nvPicPr>
        <p:blipFill>
          <a:blip r:embed="rId1"/>
          <a:srcRect l="0" t="0" r="50334" b="0"/>
          <a:stretch/>
        </p:blipFill>
        <p:spPr>
          <a:xfrm>
            <a:off x="0" y="33336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Temp\Innovation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0" y="189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лектропластическое компактирование  (брикетирование) дисперсных электропроводящи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00040" y="2463840"/>
            <a:ext cx="7643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904000" y="7650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Традиционный способ брикетир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бычное прес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50920" y="2276640"/>
            <a:ext cx="88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агаемый способ компактирования (брикетирования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импульсная св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локальное кратковременное воздействие на исходное сырьё потока энергии большой плот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пульс электрического тока. При протекании тока энергия выделяется главным образом в местах контактов между частицами дисперсного материала, а длительность импульса тока задаётся таким образом, чтобы тепло не успевало уходить из зоны контакта за время протекания тока.  Локальность и кратковременность воздействия обеспечивается самим  способом воздействия, а прочность материала формируется за счёт импульсной электрической (электропластической) сварки контактов между частицами металла и  электропластической  деформации  час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530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позитный брикет из порошка титана и стеклообразных минеральных шариков. Диаметр брикета 35 мм, высота 40,5 мм; масса 109 г, плотность 2,8 г/см3; осыпь порошка 3,4 г (3,1 %); содержание шариков по насыпному объёму 20 %, по весу 16%, в объёме брикета стекло 9%, титан 55%, поры 36 %) справа увеличенное изображение центральной части образца 1х1 с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562" descr="Брикеты сравнение 2"/>
          <p:cNvPicPr/>
          <p:nvPr/>
        </p:nvPicPr>
        <p:blipFill>
          <a:blip r:embed="rId1"/>
          <a:srcRect l="49004" t="0" r="0" b="0"/>
          <a:stretch/>
        </p:blipFill>
        <p:spPr>
          <a:xfrm>
            <a:off x="0" y="333360"/>
            <a:ext cx="9144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4797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исимость температуры брикет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начального напряжения на конденсаторной батаре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 - плотность брикето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0,5 г/см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талла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отность брикето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0,75 г/см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6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талла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 - плотность брикето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0,8 г/см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8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талла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- плотность брикето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,1 г/см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талл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214200"/>
            <a:ext cx="78487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зможности использования брик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C:\Documents and Settings\vasya\Рабочий стол\Вера\Проектирование\Чертежи\Фрагмент1.jpg"/>
          <p:cNvPicPr/>
          <p:nvPr/>
        </p:nvPicPr>
        <p:blipFill>
          <a:blip r:embed="rId1"/>
          <a:stretch/>
        </p:blipFill>
        <p:spPr>
          <a:xfrm>
            <a:off x="1428840" y="785880"/>
            <a:ext cx="6330960" cy="334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vasya\Рабочий стол\Вера\Проектирование\Чертежи\Фрагмент22222.jpg"/>
          <p:cNvPicPr/>
          <p:nvPr/>
        </p:nvPicPr>
        <p:blipFill>
          <a:blip r:embed="rId2"/>
          <a:stretch/>
        </p:blipFill>
        <p:spPr>
          <a:xfrm>
            <a:off x="285840" y="4302000"/>
            <a:ext cx="86738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4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42920" y="2142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Сравнение технологий с типичными анал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6000" y="879480"/>
          <a:ext cx="8748720" cy="4064040"/>
        </p:xfrm>
        <a:graphic>
          <a:graphicData uri="http://schemas.openxmlformats.org/drawingml/2006/table">
            <a:tbl>
              <a:tblPr/>
              <a:tblGrid>
                <a:gridCol w="5219640"/>
                <a:gridCol w="1944720"/>
                <a:gridCol w="1584360"/>
              </a:tblGrid>
              <a:tr h="5493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бору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c2c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. Устан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c2c7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кет-пресс МР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c2c7"/>
                    </a:solidFill>
                  </a:tcPr>
                </a:tc>
              </a:tr>
              <a:tr h="295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установки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 (сталь), кг/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рессования кг/см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-2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уплотнения стру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брик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е энергозатраты, кВт час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олучения пористых изделий и лигат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аления краски масел и СОЖ из готовых брик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учение брикето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размеру загрузочного окна п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efef9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755640" y="5210280"/>
            <a:ext cx="7991640" cy="1310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наша установка брикетирует следующие материал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кционные материалы (титан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прочные стали и спл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льченную листовую обре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льчённый окрашенный легковесный 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500040" y="785880"/>
            <a:ext cx="5715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0" y="76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пасибо 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Б-КВЧБ"/>
          <p:cNvPicPr/>
          <p:nvPr/>
        </p:nvPicPr>
        <p:blipFill>
          <a:blip r:embed="rId2"/>
          <a:stretch/>
        </p:blipFill>
        <p:spPr>
          <a:xfrm>
            <a:off x="2484360" y="1989000"/>
            <a:ext cx="4056120" cy="27673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1042920" y="5300640"/>
            <a:ext cx="7345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уйлов, Сергей Дмитриеви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Технический Институт им. А.Ф. Иоффе, с.н.с., к.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Sa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hd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@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mai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ioff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(812)-292-71-36, (911)-161-07-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оицкий  Олег 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ститут  машиноведения  им А.А.Благонравова 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oatroitsky@ramblw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03-687-86-4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Temp\Innovation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50920" y="18900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хема процесса электроимпульсного брике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00040" y="2463840"/>
            <a:ext cx="7643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42920" y="6000840"/>
            <a:ext cx="878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Источник импульсного электрического тока, 2 – электроды, 3 – пресс, 4 - изоляторы, 5 – стружка, 6 –электроизолированная пресс-ф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8000" y="2103480"/>
          <a:ext cx="7162920" cy="413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103480"/>
                    <a:ext cx="71629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164360" y="1916280"/>
            <a:ext cx="2160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материале имеются выделенные направления (направление прессования и направление пропускания тока, которые могут совпадать или быть взаимно перпендикулярны) но его прочностные характеристики изотропны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80640" y="83592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66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пресс, 2 – конденсаторная батарея, 3 – прессовальная камера, 4 – пульт управления прессом, 5 - пульт управления конденсаторной батаре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ден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31400" cy="4602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1880" y="189000"/>
            <a:ext cx="92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ный образец установки для брикетирования металлической стру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03280" y="1196640"/>
            <a:ext cx="136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32000" y="1197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00720" y="119664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96000" y="1196640"/>
            <a:ext cx="64764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804000" y="1196640"/>
            <a:ext cx="93672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Temp\Innovation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971640" y="549360"/>
            <a:ext cx="42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тография пробного брикета полученного на  у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00040" y="2463840"/>
            <a:ext cx="76438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42920" y="6000840"/>
            <a:ext cx="878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58579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0" y="6000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жка титанового сплава 3М. Размер брикет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,1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90 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6056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3575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длинномерного брикета из стружки титанового сплава 3М. Размер брикета: диаметр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3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1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1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75 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520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Б-ДЛИНЧБ"/>
          <p:cNvPicPr/>
          <p:nvPr/>
        </p:nvPicPr>
        <p:blipFill>
          <a:blip r:embed="rId1"/>
          <a:stretch/>
        </p:blipFill>
        <p:spPr>
          <a:xfrm>
            <a:off x="785880" y="642960"/>
            <a:ext cx="7677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5409720"/>
            <a:ext cx="861048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тография брикета из стружки титанового сплава 3М. Размер брикета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30 м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,3 г/см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0 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Б-КВЧБ"/>
          <p:cNvPicPr/>
          <p:nvPr/>
        </p:nvPicPr>
        <p:blipFill>
          <a:blip r:embed="rId1"/>
          <a:stretch/>
        </p:blipFill>
        <p:spPr>
          <a:xfrm>
            <a:off x="1285920" y="500040"/>
            <a:ext cx="69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5444640"/>
            <a:ext cx="86104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тография конического брикета из деклассированой титановой стружки с выраженными цветами побежалости. Размер брикета: диаметры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65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0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,3 г/см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0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774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5229360"/>
            <a:ext cx="86104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тография брикета из деклассированой титановой стружки с выраженными цветами побежалости, смесь длинной витой и мелкой стружки. Размер: диаметр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5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ысот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95 м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 плотн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0,7 г/см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ористост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85 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; масс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1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274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57:36Z</dcterms:created>
  <dc:creator>sir_mmu</dc:creator>
  <dc:description/>
  <dc:language>en-US</dc:language>
  <cp:lastModifiedBy>Химия</cp:lastModifiedBy>
  <dcterms:modified xsi:type="dcterms:W3CDTF">2014-11-13T08:02:35Z</dcterms:modified>
  <cp:revision>169</cp:revision>
  <dc:subject/>
  <dc:title>Слайд 1</dc:title>
</cp:coreProperties>
</file>